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513547-FAC1-4A80-8971-45898F76E9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2FD80-9D8F-4AA6-B370-E083ED2861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0800F-AF12-404E-A979-F1B20867DA7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4486FD-45FE-4D72-BED9-3413C829B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CE5E2-1D21-47B0-923A-B7B716EC18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8FF20-633F-4BE5-A4DE-869C081D5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FECC-5DF5-4533-A999-EA6ECC332E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C7B0E4-D433-47AB-B3B3-24441E61F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37F8D-6416-4C35-8BCA-BE149448CF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17D611-B937-4AB1-8E44-A69259BCA2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BF175-B2A4-4E73-BB22-DC5D58292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B4E1A-688C-4874-8AAD-D896E7F22D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D5B654-8697-4E04-96B1-B57948BB4A6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132000" y="1763640"/>
            <a:ext cx="1035360" cy="451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odul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4572000" y="1854360"/>
            <a:ext cx="10699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6012000" y="1763640"/>
            <a:ext cx="720720" cy="451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tIns="118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lin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6022440" y="2454120"/>
            <a:ext cx="89820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modif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6020640" y="3219480"/>
            <a:ext cx="1012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ateg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6" name=""/>
          <p:cNvCxnSpPr>
            <a:stCxn id="42" idx="3"/>
            <a:endCxn id="43" idx="1"/>
          </p:cNvCxnSpPr>
          <p:nvPr/>
        </p:nvCxnSpPr>
        <p:spPr>
          <a:xfrm>
            <a:off x="5641920" y="1976400"/>
            <a:ext cx="37044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7" name=""/>
          <p:cNvCxnSpPr>
            <a:endCxn id="44" idx="1"/>
          </p:cNvCxnSpPr>
          <p:nvPr/>
        </p:nvCxnSpPr>
        <p:spPr>
          <a:xfrm>
            <a:off x="5740920" y="1989000"/>
            <a:ext cx="281880" cy="587520"/>
          </a:xfrm>
          <a:prstGeom prst="bentConnector3">
            <a:avLst>
              <a:gd name="adj1" fmla="val 7928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8" name=""/>
          <p:cNvCxnSpPr>
            <a:stCxn id="41" idx="3"/>
            <a:endCxn id="42" idx="1"/>
          </p:cNvCxnSpPr>
          <p:nvPr/>
        </p:nvCxnSpPr>
        <p:spPr>
          <a:xfrm flipV="1">
            <a:off x="4167360" y="1976400"/>
            <a:ext cx="405000" cy="1296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9" name=""/>
          <p:cNvCxnSpPr/>
          <p:nvPr/>
        </p:nvCxnSpPr>
        <p:spPr>
          <a:xfrm flipH="1" rot="16200000">
            <a:off x="2997000" y="3293640"/>
            <a:ext cx="2880720" cy="270720"/>
          </a:xfrm>
          <a:prstGeom prst="bentConnector3">
            <a:avLst>
              <a:gd name="adj1" fmla="val 9827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0" name=""/>
          <p:cNvSpPr/>
          <p:nvPr/>
        </p:nvSpPr>
        <p:spPr>
          <a:xfrm>
            <a:off x="6021000" y="3579840"/>
            <a:ext cx="9136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broke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6020640" y="3940200"/>
            <a:ext cx="101124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votedat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6021360" y="2859120"/>
            <a:ext cx="1052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atomfe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021360" y="4300560"/>
            <a:ext cx="863280" cy="244080"/>
          </a:xfrm>
          <a:prstGeom prst="rect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table_conf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54" name=""/>
          <p:cNvCxnSpPr/>
          <p:nvPr/>
        </p:nvCxnSpPr>
        <p:spPr>
          <a:xfrm>
            <a:off x="4302000" y="3354120"/>
            <a:ext cx="171072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endCxn id="51" idx="1"/>
          </p:cNvCxnSpPr>
          <p:nvPr/>
        </p:nvCxnSpPr>
        <p:spPr>
          <a:xfrm>
            <a:off x="4292280" y="4033800"/>
            <a:ext cx="1728720" cy="288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endCxn id="52" idx="1"/>
          </p:cNvCxnSpPr>
          <p:nvPr/>
        </p:nvCxnSpPr>
        <p:spPr>
          <a:xfrm flipV="1">
            <a:off x="4292280" y="2981160"/>
            <a:ext cx="172944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endCxn id="50" idx="1"/>
          </p:cNvCxnSpPr>
          <p:nvPr/>
        </p:nvCxnSpPr>
        <p:spPr>
          <a:xfrm flipV="1">
            <a:off x="4292280" y="3701880"/>
            <a:ext cx="1729080" cy="1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8" name=""/>
          <p:cNvSpPr/>
          <p:nvPr/>
        </p:nvSpPr>
        <p:spPr>
          <a:xfrm>
            <a:off x="4126320" y="954000"/>
            <a:ext cx="1478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parser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6015960" y="954000"/>
            <a:ext cx="7840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016680" y="1270080"/>
            <a:ext cx="8938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atom_pars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7451640" y="1628640"/>
            <a:ext cx="1170000" cy="719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tIns="22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collec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732720" y="1989000"/>
            <a:ext cx="7189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912000" y="1449360"/>
            <a:ext cx="539640" cy="405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821640" y="1089000"/>
            <a:ext cx="630000" cy="674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7093080" y="2123640"/>
            <a:ext cx="358560" cy="90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5607000" y="1089000"/>
            <a:ext cx="405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254880" y="2708280"/>
            <a:ext cx="9759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age_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1514880" y="2708280"/>
            <a:ext cx="118800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anguage_conver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285920" y="2843280"/>
            <a:ext cx="225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2727360" y="2124000"/>
            <a:ext cx="403200" cy="765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539360" y="1854360"/>
            <a:ext cx="72468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taba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2276640" y="1989000"/>
            <a:ext cx="85536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1540800" y="1449360"/>
            <a:ext cx="109044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MyTextSanitiz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2637000" y="1584360"/>
            <a:ext cx="495000" cy="2700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577400" y="4705200"/>
            <a:ext cx="11527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ss_atom_build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4257720" y="4389480"/>
            <a:ext cx="17096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7771320" y="2708280"/>
            <a:ext cx="123228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link_broken_che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172360" y="23493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732720" y="2124000"/>
            <a:ext cx="1033200" cy="72072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3136680" y="3159000"/>
            <a:ext cx="69552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pagenav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3135600" y="549360"/>
            <a:ext cx="1294560" cy="244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_form_exten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1562400" y="549360"/>
            <a:ext cx="837360" cy="244080"/>
          </a:xfrm>
          <a:prstGeom prst="rect">
            <a:avLst/>
          </a:prstGeom>
          <a:noFill/>
          <a:ln w="9360">
            <a:solidFill>
              <a:srgbClr val="000000"/>
            </a:solidFill>
            <a:prstDash val="dash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XoopsFor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2411280" y="68436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771640" y="233280"/>
            <a:ext cx="0" cy="21607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971640" y="2394000"/>
            <a:ext cx="1800000" cy="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86" name=""/>
          <p:cNvCxnSpPr>
            <a:endCxn id="60" idx="1"/>
          </p:cNvCxnSpPr>
          <p:nvPr/>
        </p:nvCxnSpPr>
        <p:spPr>
          <a:xfrm flipH="1" flipV="1" rot="10800000">
            <a:off x="5784840" y="1089000"/>
            <a:ext cx="231840" cy="303480"/>
          </a:xfrm>
          <a:prstGeom prst="bentConnector3">
            <a:avLst>
              <a:gd name="adj1" fmla="val -15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969480" y="1042920"/>
            <a:ext cx="117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200" spc="-1" strike="noStrike">
                <a:solidFill>
                  <a:srgbClr val="000000"/>
                </a:solidFill>
                <a:latin typeface="Arial"/>
              </a:rPr>
              <a:t>xoops core api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135960" y="5272200"/>
            <a:ext cx="3338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class relation map of WebLink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1062000" y="396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376280" y="3841920"/>
            <a:ext cx="11224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 inherita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377360" y="4108320"/>
            <a:ext cx="758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</a:rPr>
              <a:t>referr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1062000" y="4238640"/>
            <a:ext cx="314280" cy="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12-23T19:24:41Z</dcterms:created>
  <dc:creator>大和田 健一</dc:creator>
  <dc:description/>
  <dc:language>en-US</dc:language>
  <cp:lastModifiedBy>大和田 健一</cp:lastModifiedBy>
  <dcterms:modified xsi:type="dcterms:W3CDTF">2004-12-23T20:57:18Z</dcterms:modified>
  <cp:revision>3</cp:revision>
  <dc:subject/>
  <dc:title>スライド 1</dc:title>
</cp:coreProperties>
</file>