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5102D-51C9-4982-BA47-FD0890424FE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22F22-1C0F-4C9E-8604-C22B942EBD3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1F6F-D19A-4A89-980E-70EB9E83B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4FB3-2D36-45B6-B9F2-A6143C7D1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213E-2680-4BBD-8C3C-E1C826069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EBE3-8499-4C6D-A005-BD3DE283D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2FE3-5171-4537-9252-82916DC37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5095-460D-4F0E-A6DA-9DEAC89BA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AC4B-6273-4D95-AA4C-FB5C5A4F8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1C7A-0DB9-4CBB-A4DE-4F761D064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0619-A71B-41B2-BD3C-B03B65666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3BE4-86B2-4AD3-876D-B96EF6F29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BABC-724A-40FD-A9DE-6B46093C5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6F2D-5240-49CB-AEAC-837BA382B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26CD6-7187-422F-B2EA-426BA2DAC0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2-23T10:28:37Z</dcterms:modified>
  <cp:revision>49</cp:revision>
  <dc:subject/>
  <dc:title>スライド 1</dc:title>
</cp:coreProperties>
</file>