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FF51-63F8-41FB-B7D8-965C9513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1E8D-F3E1-4135-BC9F-18451CF3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ADB9-A703-4153-928E-3A78C622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8284-1EE5-45B9-BB9D-79508EDAA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C203-3960-4D37-9F60-BB5A6FD2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D9F5-6FF4-478F-8076-6DD83BBE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2DB0-8B65-4682-874F-14491981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7415-62ED-45E0-8524-91DDF77F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6E5F-0501-4F56-A1A1-F3C6368D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D628-6338-4548-9313-710A88D7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2111-3BC4-4D83-830F-6739E087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6E83-CBBD-4C6C-B9B4-C77F8CC3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5EEF-8423-4E8F-8370-B2EB0A3F8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3880" y="71280"/>
            <a:ext cx="7896240" cy="6715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71640" y="1044720"/>
            <a:ext cx="6480000" cy="495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549360"/>
            <a:ext cx="1439640" cy="495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1539720"/>
            <a:ext cx="2700360" cy="202428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7000" y="1539720"/>
            <a:ext cx="3644640" cy="202428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3654360"/>
            <a:ext cx="6480000" cy="297036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497720" y="1852560"/>
            <a:ext cx="719280" cy="58572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97720" y="2484360"/>
            <a:ext cx="719280" cy="49536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2480" y="511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3640" y="1044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4800" y="1590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6120" y="3789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59240" y="1593720"/>
            <a:ext cx="311760" cy="368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29240" y="1776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29240" y="2484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6T11:23:30Z</dcterms:created>
  <dc:creator>Toru Furukawa</dc:creator>
  <dc:description/>
  <dc:language>en-US</dc:language>
  <cp:lastModifiedBy>Toru Furukawa</cp:lastModifiedBy>
  <dcterms:modified xsi:type="dcterms:W3CDTF">2007-05-26T11:49:05Z</dcterms:modified>
  <cp:revision>2</cp:revision>
  <dc:subject/>
  <dc:title>スライド 1</dc:title>
</cp:coreProperties>
</file>