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13301-B831-4D3E-9522-DF2D939C3FF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F47-D5EF-4D78-B76B-50A6623E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2D6-2A55-479E-BEC8-E811162E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4F03-C58C-4B5C-A8EF-E6F2FB4A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929-2157-45F2-AB9E-5643EDCA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A953-5F50-4C99-A3B7-F344D52A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90A3-9DE1-4E6A-A01E-94770A66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D59D-2908-4979-A8CA-37051F70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0A8B-A029-4DEA-A458-8C83BD72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C8F4-14FF-4F5A-8001-71087CA4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C373-BA52-4DC6-B51B-5209E666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C1EF-AC4D-45AB-B747-C3615BBF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3CE-928C-42EA-A6A6-2F4A0215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967B-C7A9-46A3-A0F2-D981055D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96D0-D20B-4FB5-8E61-F7E471E5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8E49-158E-4F8E-84B3-749C931C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ED67-DAE7-429F-B775-66A8CA66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C7BE-3984-477C-B284-D2E05AB4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F45-F0A9-4D80-BD5D-3F21554E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0D40-26C3-45D5-B418-1ABFE7CD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B6E-D3A7-4B52-846F-9E9B40F6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696-3036-4674-B530-70CABD84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5069-4A8C-492B-A97D-97DC797F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96A-C8BE-4680-951F-9DD2D467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538E-8093-4B84-8461-5AAC4E1E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E8EF9-C666-47B2-9DA0-341A1943796B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21D14AF-BB1A-48AD-A690-3AC396D37E8F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     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OSC2006 Tokyo/Fal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2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996A-FDAA-4FAA-B2A8-498B191B180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3D80-2193-49CA-89B6-66595A11DA9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ava / C#.NET / JavaScript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B65-FD35-48B8-A483-26D0B8C08E7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272360" cy="36417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14172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764-B5C7-496D-BE4C-B8BCDA18932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次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B.NET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対応という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259D-B623-426F-A0E2-E0B8E198440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do</cp:lastModifiedBy>
  <dcterms:modified xsi:type="dcterms:W3CDTF">2006-10-28T00:39:31Z</dcterms:modified>
  <cp:revision>298</cp:revision>
  <dc:subject/>
  <dc:title>blanco Framework ご紹介</dc:title>
</cp:coreProperties>
</file>