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0F5FF-18D9-424C-AFD0-5F9B6A6C195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8A6F-CEFF-4002-A5A0-DEB5FDEF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5B11-D264-4B4A-8EC6-FA82BAE9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996C-7A24-4A29-8373-A12889A4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EEF-BE55-4F36-94DB-308677FA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E43B-93F6-46E7-B615-E8B4A9A6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DE53-F5D4-4E1E-A7E2-090EF609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0273-5B56-4FF3-8B52-52893783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0FD3-02D2-45F2-806B-2238D38D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CF1D-0DF3-46A8-8D42-021CEA4C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C225-02F6-4C7D-931E-2F833E78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3401-C870-4E40-BD80-62C49D25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2A35-1342-4353-88DB-4999E6DC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123D-28A0-4D4A-B2A1-05285765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7B1C-4E12-4E94-BEDF-D2D11E35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EA65-11A7-4102-80ED-6957E1C5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FE65-32D2-4B76-8BAF-080E5CF4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7D3A-B208-4A36-B441-8C4F89D0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FFE-F680-4B39-B4E5-A52B5155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1EF0-096B-45DA-9E2E-61FCE75C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07E8-6174-491F-AD6F-09EB2C88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43D4-5598-400F-A84F-3E64CF11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FBC9-9243-490A-8116-73539056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1F0D-CFC4-412E-9617-1F4D03F3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DDD-EA8A-4F94-A792-ECD6BE60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D29CF-EC49-4BFF-923F-654FE5B65588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5B0E7D7-02A9-4868-959C-B769DD1D8651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クリーンショッ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7.0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17EC-BE4C-455F-A5E0-A1B30E96637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271C-0661-40BE-A5EF-3C4D99ED919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8F08-5914-4FBF-903A-E0F799F4E030}" type="slidenum">
              <a:t>5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kiIga</cp:lastModifiedBy>
  <dcterms:modified xsi:type="dcterms:W3CDTF">2007-01-15T09:00:58Z</dcterms:modified>
  <cp:revision>318</cp:revision>
  <dc:subject/>
  <dc:title>blanco Framework ご紹介</dc:title>
</cp:coreProperties>
</file>