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C97E67-4296-4A72-9712-E5BD27B486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050920" y="2276280"/>
            <a:ext cx="5486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09320" y="4267080"/>
            <a:ext cx="525780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09320" y="4506120"/>
            <a:ext cx="525780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5D1D59-18BD-4AC2-886E-F096588BEC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050920" y="2276280"/>
            <a:ext cx="5486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09320" y="4267080"/>
            <a:ext cx="2565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03560" y="4267080"/>
            <a:ext cx="2565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09320" y="4506120"/>
            <a:ext cx="2565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903560" y="4506120"/>
            <a:ext cx="2565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8ADAE9-C29D-4E60-AF24-C1FFDAA41C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050920" y="2276280"/>
            <a:ext cx="5486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09320" y="4267080"/>
            <a:ext cx="1692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987000" y="4267080"/>
            <a:ext cx="1692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764680" y="4267080"/>
            <a:ext cx="1692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09320" y="4506120"/>
            <a:ext cx="1692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987000" y="4506120"/>
            <a:ext cx="1692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764680" y="4506120"/>
            <a:ext cx="1692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053C35-CD63-4656-BF01-1E5626DDC5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050920" y="2276280"/>
            <a:ext cx="5486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2209320" y="426708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050920" y="2276280"/>
            <a:ext cx="5486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09320" y="426708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050920" y="2276280"/>
            <a:ext cx="5486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09320" y="4267080"/>
            <a:ext cx="2565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03560" y="4267080"/>
            <a:ext cx="2565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050920" y="2276280"/>
            <a:ext cx="5486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2050920" y="2276280"/>
            <a:ext cx="5486400" cy="77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050920" y="2276280"/>
            <a:ext cx="5486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09320" y="4267080"/>
            <a:ext cx="2565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03560" y="4267080"/>
            <a:ext cx="2565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209320" y="4506120"/>
            <a:ext cx="2565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050920" y="2276280"/>
            <a:ext cx="5486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09320" y="426708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D1189E-4516-4939-8DDB-9C6AB7B000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050920" y="2276280"/>
            <a:ext cx="5486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09320" y="4267080"/>
            <a:ext cx="2565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03560" y="4267080"/>
            <a:ext cx="2565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903560" y="4506120"/>
            <a:ext cx="2565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050920" y="2276280"/>
            <a:ext cx="5486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09320" y="4267080"/>
            <a:ext cx="2565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3560" y="4267080"/>
            <a:ext cx="2565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209320" y="4506120"/>
            <a:ext cx="525780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050920" y="2276280"/>
            <a:ext cx="5486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09320" y="4267080"/>
            <a:ext cx="525780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2209320" y="4506120"/>
            <a:ext cx="525780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050920" y="2276280"/>
            <a:ext cx="5486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209320" y="4267080"/>
            <a:ext cx="2565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03560" y="4267080"/>
            <a:ext cx="2565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2209320" y="4506120"/>
            <a:ext cx="2565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903560" y="4506120"/>
            <a:ext cx="2565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050920" y="2276280"/>
            <a:ext cx="5486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209320" y="4267080"/>
            <a:ext cx="1692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987000" y="4267080"/>
            <a:ext cx="1692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5764680" y="4267080"/>
            <a:ext cx="1692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2209320" y="4506120"/>
            <a:ext cx="1692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987000" y="4506120"/>
            <a:ext cx="1692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5764680" y="4506120"/>
            <a:ext cx="1692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050920" y="2276280"/>
            <a:ext cx="5486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09320" y="426708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768274-2F47-40C5-B371-EEF6F56E21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050920" y="2276280"/>
            <a:ext cx="5486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09320" y="4267080"/>
            <a:ext cx="2565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03560" y="4267080"/>
            <a:ext cx="2565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4BEAAE-0014-4A0E-BACD-D95AC88E64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050920" y="2276280"/>
            <a:ext cx="5486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DCE953-DEBB-4894-B304-8B3BF418BA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050920" y="2276280"/>
            <a:ext cx="5486400" cy="77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0BC4D0-2A6B-4FE8-8DC5-4279BBF666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050920" y="2276280"/>
            <a:ext cx="5486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09320" y="4267080"/>
            <a:ext cx="2565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3560" y="4267080"/>
            <a:ext cx="2565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09320" y="4506120"/>
            <a:ext cx="2565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01BD09-884F-449B-ADF4-CB6FF33278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050920" y="2276280"/>
            <a:ext cx="5486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09320" y="4267080"/>
            <a:ext cx="2565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3560" y="4267080"/>
            <a:ext cx="2565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903560" y="4506120"/>
            <a:ext cx="2565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D816A7-A5D9-4491-8B26-D4F47C2839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050920" y="2276280"/>
            <a:ext cx="5486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09320" y="4267080"/>
            <a:ext cx="2565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03560" y="4267080"/>
            <a:ext cx="2565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09320" y="4506120"/>
            <a:ext cx="525780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1E9440-8325-466F-9677-FDE2CA49A4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304920"/>
            <a:ext cx="457200" cy="65530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0"/>
            <a:ext cx="7315200" cy="3049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5172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09120" y="380880"/>
            <a:ext cx="6705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ＭＳ Ｐゴシック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09480" y="1066320"/>
            <a:ext cx="83059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lvl="2" marL="1143000" indent="-228600">
              <a:spcBef>
                <a:spcPts val="49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lvl="3" marL="1600200" indent="-228600">
              <a:spcBef>
                <a:spcPts val="49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lvl="4" marL="2057400" indent="-228600">
              <a:spcBef>
                <a:spcPts val="49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360" y="6552720"/>
            <a:ext cx="6858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小塚ゴシック Std M"/>
                <a:ea typeface="小塚ゴシック Std M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小塚ゴシック Std M"/>
                <a:ea typeface="小塚ゴシック Std M"/>
              </a:rPr>
              <a:t>P </a:t>
            </a:r>
            <a:fld id="{E9C4C0D9-A3B4-4109-BF06-D0EF27C5492D}" type="slidenum">
              <a:rPr b="0" lang="en-US" sz="1200" spc="-1" strike="noStrike">
                <a:solidFill>
                  <a:srgbClr val="000000"/>
                </a:solidFill>
                <a:latin typeface="小塚ゴシック Std M"/>
                <a:ea typeface="小塚ゴシック Std 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304920"/>
            <a:ext cx="6095880" cy="0"/>
          </a:xfrm>
          <a:prstGeom prst="line">
            <a:avLst/>
          </a:prstGeom>
          <a:ln w="28440">
            <a:solidFill>
              <a:srgbClr val="5172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733920" y="6553080"/>
            <a:ext cx="5410080" cy="304920"/>
          </a:xfrm>
          <a:prstGeom prst="rect">
            <a:avLst/>
          </a:prstGeom>
          <a:gradFill rotWithShape="0">
            <a:gsLst>
              <a:gs pos="0">
                <a:srgbClr val="5172b3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495680" y="6553080"/>
            <a:ext cx="4648320" cy="0"/>
          </a:xfrm>
          <a:prstGeom prst="line">
            <a:avLst/>
          </a:prstGeom>
          <a:ln w="28440">
            <a:solidFill>
              <a:srgbClr val="5172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04000" y="6597000"/>
            <a:ext cx="234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小塚ゴシック Std M"/>
                <a:ea typeface="小塚ゴシック Std M"/>
              </a:rPr>
              <a:t>blanco Frame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2743200" y="914400"/>
            <a:ext cx="6400800" cy="0"/>
          </a:xfrm>
          <a:prstGeom prst="line">
            <a:avLst/>
          </a:prstGeom>
          <a:ln w="28440">
            <a:solidFill>
              <a:srgbClr val="5172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457200" y="0"/>
            <a:ext cx="0" cy="914400"/>
          </a:xfrm>
          <a:prstGeom prst="line">
            <a:avLst/>
          </a:prstGeom>
          <a:ln w="28440">
            <a:solidFill>
              <a:srgbClr val="5172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752480" y="2205000"/>
            <a:ext cx="5791320" cy="160488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  <a:effectLst>
            <a:outerShdw dist="340830" dir="1592279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1371600" cy="6858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5172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924680" y="3733920"/>
            <a:ext cx="0" cy="45720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20120" y="4038480"/>
            <a:ext cx="533160" cy="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523880" y="2192400"/>
            <a:ext cx="4724640" cy="0"/>
          </a:xfrm>
          <a:prstGeom prst="line">
            <a:avLst/>
          </a:prstGeom>
          <a:ln w="28440">
            <a:solidFill>
              <a:srgbClr val="5172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848720" y="3352680"/>
            <a:ext cx="0" cy="762120"/>
          </a:xfrm>
          <a:prstGeom prst="line">
            <a:avLst/>
          </a:prstGeom>
          <a:ln w="28440">
            <a:solidFill>
              <a:srgbClr val="5172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752480" y="1963800"/>
            <a:ext cx="0" cy="457200"/>
          </a:xfrm>
          <a:prstGeom prst="line">
            <a:avLst/>
          </a:prstGeom>
          <a:ln w="28440">
            <a:solidFill>
              <a:srgbClr val="5172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238880" y="3962520"/>
            <a:ext cx="838440" cy="0"/>
          </a:xfrm>
          <a:prstGeom prst="line">
            <a:avLst/>
          </a:prstGeom>
          <a:ln w="28440">
            <a:solidFill>
              <a:srgbClr val="5172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050920" y="2276280"/>
            <a:ext cx="5486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ＭＳ Ｐゴシック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ＭＳ Ｐゴシック"/>
              </a:rPr>
              <a:t>Click to edit the outline text format</a:t>
            </a: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  <a:p>
            <a:pPr lvl="2" marL="914400" algn="ctr">
              <a:spcBef>
                <a:spcPts val="400"/>
              </a:spcBef>
              <a:buClr>
                <a:srgbClr val="5172b3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ＭＳ Ｐゴシック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ＭＳ Ｐゴシック"/>
            </a:endParaRPr>
          </a:p>
          <a:p>
            <a:pPr lvl="3" marL="1371600" algn="ctr">
              <a:spcBef>
                <a:spcPts val="34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ＭＳ Ｐゴシック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  <a:p>
            <a:pPr lvl="4" marL="1828800" algn="ctr">
              <a:spcBef>
                <a:spcPts val="34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ＭＳ Ｐゴシック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ＭＳ Ｐゴシック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ＭＳ Ｐゴシック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050920" y="2276280"/>
            <a:ext cx="5486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JExcelApi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への取り組み</a:t>
            </a:r>
            <a:endParaRPr b="0" lang="en-US" sz="32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484280" y="4400640"/>
            <a:ext cx="6400800" cy="134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5f5f5f"/>
                </a:solidFill>
                <a:latin typeface="HG丸ｺﾞｼｯｸM-PRO"/>
                <a:ea typeface="HG丸ｺﾞｼｯｸM-PRO"/>
              </a:rPr>
              <a:t>200</a:t>
            </a:r>
            <a:r>
              <a:rPr b="0" lang="en-GB" sz="2400" spc="-1" strike="noStrike">
                <a:solidFill>
                  <a:srgbClr val="5f5f5f"/>
                </a:solidFill>
                <a:latin typeface="HG丸ｺﾞｼｯｸM-PRO"/>
                <a:ea typeface="HG丸ｺﾞｼｯｸM-PRO"/>
              </a:rPr>
              <a:t>7.03</a:t>
            </a:r>
            <a:r>
              <a:rPr b="0" lang="ja-JP" sz="2400" spc="-1" strike="noStrike">
                <a:solidFill>
                  <a:srgbClr val="5f5f5f"/>
                </a:solidFill>
                <a:latin typeface="HG丸ｺﾞｼｯｸM-PRO"/>
                <a:ea typeface="HG丸ｺﾞｼｯｸM-PRO"/>
              </a:rPr>
              <a:t>.</a:t>
            </a:r>
            <a:r>
              <a:rPr b="0" lang="en-GB" sz="2400" spc="-1" strike="noStrike">
                <a:solidFill>
                  <a:srgbClr val="5f5f5f"/>
                </a:solidFill>
                <a:latin typeface="HG丸ｺﾞｼｯｸM-PRO"/>
                <a:ea typeface="HG丸ｺﾞｼｯｸM-PRO"/>
              </a:rPr>
              <a:t>17</a:t>
            </a: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5f5f5f"/>
                </a:solidFill>
                <a:latin typeface="HG丸ｺﾞｼｯｸM-PRO"/>
                <a:ea typeface="HG丸ｺﾞｼｯｸM-PRO"/>
              </a:rPr>
              <a:t>山本 耕司</a:t>
            </a: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f5f5f"/>
                </a:solidFill>
                <a:latin typeface="HG丸ｺﾞｼｯｸM-PRO"/>
                <a:ea typeface="HG丸ｺﾞｼｯｸM-PRO"/>
              </a:rPr>
              <a:t>blanco Framework </a:t>
            </a:r>
            <a:r>
              <a:rPr b="0" lang="ja-JP" sz="2400" spc="-1" strike="noStrike">
                <a:solidFill>
                  <a:srgbClr val="5f5f5f"/>
                </a:solidFill>
                <a:latin typeface="HG丸ｺﾞｼｯｸM-PRO"/>
                <a:ea typeface="HG丸ｺﾞｼｯｸM-PRO"/>
              </a:rPr>
              <a:t>コミッタ</a:t>
            </a: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11280" y="333360"/>
            <a:ext cx="6705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ＭＳ Ｐゴシック"/>
              </a:rPr>
              <a:t>blanco Framework </a:t>
            </a:r>
            <a:r>
              <a:rPr b="1" lang="ja-JP" sz="2800" spc="-1" strike="noStrike">
                <a:solidFill>
                  <a:srgbClr val="000000"/>
                </a:solidFill>
                <a:latin typeface="ＭＳ Ｐゴシック"/>
              </a:rPr>
              <a:t>自動生成アーキテクチャ</a:t>
            </a: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96" name=""/>
          <p:cNvSpPr/>
          <p:nvPr/>
        </p:nvSpPr>
        <p:spPr>
          <a:xfrm>
            <a:off x="7486560" y="3681360"/>
            <a:ext cx="649440" cy="647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XM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486560" y="2852640"/>
            <a:ext cx="649440" cy="647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ソース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コード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76360" y="1773360"/>
            <a:ext cx="1692000" cy="504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059280" y="1628640"/>
            <a:ext cx="3241440" cy="302436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64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050920" y="3139920"/>
            <a:ext cx="935280" cy="576360"/>
          </a:xfrm>
          <a:prstGeom prst="rightArrow">
            <a:avLst>
              <a:gd name="adj1" fmla="val 50000"/>
              <a:gd name="adj2" fmla="val 40568"/>
            </a:avLst>
          </a:prstGeom>
          <a:solidFill>
            <a:srgbClr val="c0c0c0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125800" y="3284640"/>
            <a:ext cx="71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TBP丸ｺﾞｼｯｸR"/>
              </a:rPr>
              <a:t>読み込み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332000" y="242100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8720" y="3141720"/>
            <a:ext cx="934920" cy="576360"/>
          </a:xfrm>
          <a:prstGeom prst="rightArrow">
            <a:avLst>
              <a:gd name="adj1" fmla="val 50000"/>
              <a:gd name="adj2" fmla="val 40553"/>
            </a:avLst>
          </a:prstGeom>
          <a:solidFill>
            <a:srgbClr val="c0c0c0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481800" y="3284640"/>
            <a:ext cx="719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TBP丸ｺﾞｼｯｸR"/>
              </a:rPr>
              <a:t>書き出し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264360" y="4905360"/>
            <a:ext cx="25192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・すぐに使えるソースコード</a:t>
            </a:r>
            <a:br>
              <a:rPr sz="1600"/>
            </a:br>
            <a:r>
              <a:rPr b="0" lang="zh-CN" sz="16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・実行時ライブラリ不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440000" y="2529000"/>
            <a:ext cx="50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TBP丸ｺﾞｼｯｸR"/>
              </a:rPr>
              <a:t>記入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16360" y="4941720"/>
            <a:ext cx="219564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容易なインストール</a:t>
            </a:r>
            <a:br>
              <a:rPr sz="1600"/>
            </a:br>
            <a:r>
              <a:rPr b="0" lang="zh-CN" sz="16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および実行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380360" y="1160640"/>
            <a:ext cx="1150920" cy="1079280"/>
          </a:xfrm>
          <a:prstGeom prst="wedgeRectCallout">
            <a:avLst>
              <a:gd name="adj1" fmla="val -18138"/>
              <a:gd name="adj2" fmla="val 87648"/>
            </a:avLst>
          </a:prstGeom>
          <a:solidFill>
            <a:srgbClr val="ffffff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S UI Gothic"/>
                <a:ea typeface="MS UI Gothic"/>
              </a:rPr>
              <a:t>Jav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S UI Gothic"/>
                <a:ea typeface="MS UI Gothic"/>
              </a:rPr>
              <a:t>C#.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S UI Gothic"/>
                <a:ea typeface="MS UI Gothic"/>
              </a:rPr>
              <a:t>JavaScri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S UI Gothic"/>
                <a:ea typeface="MS UI Gothic"/>
              </a:rPr>
              <a:t>VB.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S UI Gothic"/>
                <a:ea typeface="MS UI Gothic"/>
              </a:rPr>
              <a:t>PH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20720" y="4976640"/>
            <a:ext cx="208764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表計算ソフトを使って</a:t>
            </a:r>
            <a:br>
              <a:rPr sz="1600"/>
            </a:br>
            <a:r>
              <a:rPr b="0" lang="zh-CN" sz="16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記入するだけ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55640" y="1951200"/>
            <a:ext cx="1295280" cy="14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Century Gothic"/>
              </a:rPr>
              <a:t>Excel / OpenOff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564000" y="3860640"/>
            <a:ext cx="2232000" cy="505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564000" y="2563920"/>
            <a:ext cx="2232000" cy="50472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708360" y="4003560"/>
            <a:ext cx="1944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entury Gothic"/>
              </a:rPr>
              <a:t>Java</a:t>
            </a:r>
            <a:r>
              <a:rPr b="1" lang="zh-CN" sz="1300" spc="-1" strike="noStrike">
                <a:solidFill>
                  <a:srgbClr val="000000"/>
                </a:solidFill>
                <a:latin typeface="Century Gothic"/>
              </a:rPr>
              <a:t>実行環境 </a:t>
            </a:r>
            <a:r>
              <a:rPr b="1" lang="en-US" sz="1300" spc="-1" strike="noStrike">
                <a:solidFill>
                  <a:srgbClr val="000000"/>
                </a:solidFill>
                <a:latin typeface="Century Gothic"/>
              </a:rPr>
              <a:t>1.4.2</a:t>
            </a:r>
            <a:r>
              <a:rPr b="1" lang="zh-CN" sz="1300" spc="-1" strike="noStrike">
                <a:solidFill>
                  <a:srgbClr val="000000"/>
                </a:solidFill>
                <a:latin typeface="Century Gothic"/>
              </a:rPr>
              <a:t>以降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708360" y="2706840"/>
            <a:ext cx="1944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Century Gothic"/>
              </a:rPr>
              <a:t>JExcelApi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564000" y="1916280"/>
            <a:ext cx="2232000" cy="504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708360" y="2058840"/>
            <a:ext cx="1944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Century Gothic"/>
              </a:rPr>
              <a:t>blanco</a:t>
            </a:r>
            <a:r>
              <a:rPr b="1" lang="ja-JP" sz="1300" spc="-1" strike="noStrike">
                <a:solidFill>
                  <a:srgbClr val="000000"/>
                </a:solidFill>
                <a:latin typeface="Century Gothic"/>
              </a:rPr>
              <a:t>＊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274920" y="3211560"/>
            <a:ext cx="1368360" cy="504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714920" y="3211560"/>
            <a:ext cx="1368360" cy="504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419640" y="3354480"/>
            <a:ext cx="1079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entury Gothic"/>
              </a:rPr>
              <a:t>Apache An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859280" y="3354480"/>
            <a:ext cx="1079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entury Gothic"/>
              </a:rPr>
              <a:t>Eclips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55640" y="3068640"/>
            <a:ext cx="1152360" cy="720720"/>
          </a:xfrm>
          <a:prstGeom prst="flowChartDocument">
            <a:avLst/>
          </a:prstGeom>
          <a:solidFill>
            <a:srgbClr val="c3ffe7">
              <a:alpha val="60000"/>
            </a:srgbClr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定義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（</a:t>
            </a:r>
            <a:r>
              <a:rPr b="0" lang="en-US" sz="9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XLS</a:t>
            </a:r>
            <a:r>
              <a:rPr b="0" lang="zh-CN" sz="9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ファイル）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155A90-E2E5-45CA-BB4E-462E806D824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380880"/>
            <a:ext cx="6705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ＭＳ Ｐゴシック"/>
              </a:rPr>
              <a:t>遭遇した問題</a:t>
            </a: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10920" y="1482480"/>
            <a:ext cx="8305560" cy="49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Sun JDK 1.4.2_12</a:t>
            </a: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上で正常に動作しない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43040" indent="-285840">
              <a:spcBef>
                <a:spcPts val="45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ＭＳ Ｐゴシック"/>
              </a:rPr>
              <a:t>セルの値が読めない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  <a:p>
            <a:pPr marL="343080" indent="-343080">
              <a:spcBef>
                <a:spcPts val="49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特定の文字が正常に処理できない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43040" indent="-285840">
              <a:spcBef>
                <a:spcPts val="45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ＭＳ Ｐゴシック"/>
              </a:rPr>
              <a:t>「</a:t>
            </a: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×</a:t>
            </a:r>
            <a:r>
              <a:rPr b="0" lang="zh-CN" sz="1800" spc="-1" strike="noStrike">
                <a:solidFill>
                  <a:srgbClr val="000000"/>
                </a:solidFill>
                <a:latin typeface="ＭＳ Ｐゴシック"/>
              </a:rPr>
              <a:t>」が「ﾗ」に文字化け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1CC346-2353-45FD-B767-105959AFC79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380880"/>
            <a:ext cx="6705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ＭＳ Ｐゴシック"/>
              </a:rPr>
              <a:t>Sun JDK 1.4.2_12</a:t>
            </a:r>
            <a:r>
              <a:rPr b="0" lang="zh-CN" sz="2800" spc="-1" strike="noStrike">
                <a:solidFill>
                  <a:srgbClr val="000000"/>
                </a:solidFill>
                <a:latin typeface="ＭＳ Ｐゴシック"/>
              </a:rPr>
              <a:t>上で正常に動作しない</a:t>
            </a: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10920" y="1482480"/>
            <a:ext cx="8305560" cy="47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Sun JDK 1.4.2_10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までは問題なし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marL="343080" indent="-343080">
              <a:spcBef>
                <a:spcPts val="49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Sun JDK 1.4.2_12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上ではセルの値が読めない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43040" indent="-285840">
              <a:spcBef>
                <a:spcPts val="45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中間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XML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ファイルの中身が空っぽ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43040" indent="-285840">
              <a:spcBef>
                <a:spcPts val="45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ソースコードが生成されない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  <a:p>
            <a:pPr marL="343080" indent="-343080">
              <a:spcBef>
                <a:spcPts val="49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“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UnicodeLittle“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の内部表現が変わったのが原因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43040" indent="-285840">
              <a:spcBef>
                <a:spcPts val="45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BOM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なし→ 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BOM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あり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  <a:p>
            <a:pPr marL="343080" indent="-343080">
              <a:spcBef>
                <a:spcPts val="49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“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UnicodeLittle” → “UTF-16LE”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D9803A-8487-4484-BE96-4EB5F5C2B77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380880"/>
            <a:ext cx="6705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特定の文字が正常に処理できない</a:t>
            </a: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10920" y="1482480"/>
            <a:ext cx="8305560" cy="49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特定の文字が文字化け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43040" indent="-285840">
              <a:spcBef>
                <a:spcPts val="45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「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×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」が「ﾗ」に文字化け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43040" indent="-285840">
              <a:spcBef>
                <a:spcPts val="45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常に文字化けが発生するわけでない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  <a:p>
            <a:pPr marL="343080" indent="-343080">
              <a:spcBef>
                <a:spcPts val="49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\u0000-\u00ff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の文字だけからなるセルで発生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43040" indent="-285840">
              <a:spcBef>
                <a:spcPts val="45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ASCII (Compressed) String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43040" indent="-285840">
              <a:spcBef>
                <a:spcPts val="45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WorkbookSetting#getEncoding()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のエンコーディングで復元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43040" indent="-285840">
              <a:spcBef>
                <a:spcPts val="45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指定がなければデフォルトエンコーディング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  <a:p>
            <a:pPr marL="343080" indent="-343080">
              <a:spcBef>
                <a:spcPts val="49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WorkbookSetting#setEncoding()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に”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ISO8859_1”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を指定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43040" indent="-285840">
              <a:spcBef>
                <a:spcPts val="45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JExcelApi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自体の修正は必要なし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  <a:p>
            <a:pPr marL="343080" indent="-343080">
              <a:spcBef>
                <a:spcPts val="49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シート名の文字化けは別途対応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43040" indent="-285840">
              <a:spcBef>
                <a:spcPts val="45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new String(bytes)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　→ 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new String(bytes, "ISO8859_1")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78F047-FC4D-48F8-B10A-F5846B23169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120" y="380880"/>
            <a:ext cx="6705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JExcelApi blanco </a:t>
            </a: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パッチ</a:t>
            </a: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10920" y="1483920"/>
            <a:ext cx="8305560" cy="49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blancoCommons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に同梱して配布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marL="343080" indent="-343080">
              <a:spcBef>
                <a:spcPts val="49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SourceForge.jp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にてパッチ提供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	</a:t>
            </a:r>
            <a:r>
              <a:rPr b="0" lang="en-US" sz="2000" spc="-1" strike="noStrike" u="sng">
                <a:solidFill>
                  <a:srgbClr val="3333cc"/>
                </a:solidFill>
                <a:uFillTx/>
                <a:latin typeface="ＭＳ Ｐゴシック"/>
              </a:rPr>
              <a:t>http://cvs.sourceforge.jp/cgi-bin/viewcvs.cgi/blancofw/blancoMisc/doc/jexcelapi/#dirlis</a:t>
            </a:r>
            <a:r>
              <a:rPr b="0" lang="ja-JP" sz="2000" spc="-1" strike="noStrike" u="sng">
                <a:solidFill>
                  <a:srgbClr val="3333cc"/>
                </a:solidFill>
                <a:uFillTx/>
                <a:latin typeface="ＭＳ Ｐゴシック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43040" indent="-285840">
              <a:spcBef>
                <a:spcPts val="45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最新のパッチは、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jxl-2.6.2blanco4.patch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934FE0-CC25-4FA1-8AFF-66D21E17433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09120" y="380880"/>
            <a:ext cx="6705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blanco JExcelApi </a:t>
            </a: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メーリングリスト</a:t>
            </a: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10920" y="1483920"/>
            <a:ext cx="8305560" cy="49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blancofw-jexcelapi ML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	</a:t>
            </a:r>
            <a:r>
              <a:rPr b="0" lang="ja-JP" sz="2000" spc="-1" strike="noStrike" u="sng">
                <a:solidFill>
                  <a:srgbClr val="3333cc"/>
                </a:solidFill>
                <a:uFillTx/>
                <a:latin typeface="ＭＳ Ｐゴシック"/>
              </a:rPr>
              <a:t>http://lists.sourceforge.jp/mailman/listinfo/blancofw-jexcelapi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marL="343080" indent="-343080">
              <a:spcBef>
                <a:spcPts val="49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blanco ML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中、ユーザ数最多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43040" indent="-285840">
              <a:spcBef>
                <a:spcPts val="45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ほとんど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ROM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49882F-811C-4449-ADF0-998335398F0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050920" y="2276280"/>
            <a:ext cx="5486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JExcelApi ML 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を</a:t>
            </a:r>
            <a:br>
              <a:rPr sz="3200"/>
            </a:b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よろしく</a:t>
            </a:r>
            <a:endParaRPr b="0" lang="en-US" sz="32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2209320" y="426708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5f5f5f"/>
                </a:solidFill>
                <a:latin typeface="ＭＳ Ｐゴシック"/>
              </a:rPr>
              <a:t>blanco Framework </a:t>
            </a:r>
            <a:r>
              <a:rPr b="0" lang="ja-JP" sz="2400" spc="-1" strike="noStrike">
                <a:solidFill>
                  <a:srgbClr val="5f5f5f"/>
                </a:solidFill>
                <a:latin typeface="ＭＳ Ｐゴシック"/>
              </a:rPr>
              <a:t>も ・・・</a:t>
            </a: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4T07:32:30Z</dcterms:created>
  <dc:creator/>
  <dc:description/>
  <dc:language>en-US</dc:language>
  <cp:lastModifiedBy>ndb</cp:lastModifiedBy>
  <dcterms:modified xsi:type="dcterms:W3CDTF">2007-03-16T05:48:00Z</dcterms:modified>
  <cp:revision>217</cp:revision>
  <dc:subject/>
  <dc:title>blanco Framework　システム構成</dc:title>
</cp:coreProperties>
</file>