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2"/>
          </p:nvPr>
        </p:nvSpPr>
        <p:spPr>
          <a:xfrm>
            <a:off x="381636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901800" y="739440"/>
            <a:ext cx="492912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丸ｺﾞｼｯｸM-PRO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380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3"/>
          </p:nvPr>
        </p:nvSpPr>
        <p:spPr>
          <a:xfrm>
            <a:off x="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4"/>
          </p:nvPr>
        </p:nvSpPr>
        <p:spPr>
          <a:xfrm>
            <a:off x="381636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714DC9-CD43-4FDB-B117-787F780BA1C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22A76-6721-4433-A4F7-9836BCF288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85236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AEE80-ED9C-495B-8DAD-0238366E18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6576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1C446-DCDA-4376-B05D-E425A743AC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18200" y="106632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26560" y="106632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85236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18200" y="385236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26560" y="385236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DD852-A0D1-40EB-B5EF-FA275C39E4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120" y="380880"/>
            <a:ext cx="67057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51A6F-B987-4A14-AB09-3EBFEA40AB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576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9480" y="385236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576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18200" y="106632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26560" y="106632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09480" y="385236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18200" y="385236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26560" y="385236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DBD7B-C6EB-498E-95A3-30932132F6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A09D8-B607-42EE-8F8D-7535E5E1A6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DF19A-925F-44B2-9787-7F56F23029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120" y="380880"/>
            <a:ext cx="67057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0DB8C-8A03-4E7F-BC20-F57A6E05BC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2F54B-13FA-4532-B02F-C55F3C734F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6576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F9F0D-DC14-424F-9B10-B154C0818A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63C44-5A14-4C83-927E-549F3A1410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457200" cy="6553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0"/>
            <a:ext cx="7315200" cy="304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5172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2" marL="11430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3" marL="16002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4" marL="20574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rPr>
              <a:t>P </a:t>
            </a:r>
            <a:fld id="{07355154-7AC7-4FCD-8999-49D5E59B9AE2}" type="slidenum">
              <a: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04920"/>
            <a:ext cx="609588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33920" y="6553080"/>
            <a:ext cx="5410080" cy="304920"/>
          </a:xfrm>
          <a:prstGeom prst="rect">
            <a:avLst/>
          </a:prstGeom>
          <a:gradFill rotWithShape="0">
            <a:gsLst>
              <a:gs pos="0">
                <a:srgbClr val="5172b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495680" y="6553080"/>
            <a:ext cx="464832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04000" y="659700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小塚ゴシック Std M"/>
                <a:ea typeface="小塚ゴシック Std M"/>
              </a:rPr>
              <a:t>blanco Frame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743200" y="914400"/>
            <a:ext cx="640080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0"/>
            <a:ext cx="0" cy="91440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52480" y="2205000"/>
            <a:ext cx="5791320" cy="1604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  <a:effectLst>
            <a:outerShdw dist="340830" dir="1592279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5172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24680" y="3733920"/>
            <a:ext cx="0" cy="4572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0120" y="4038480"/>
            <a:ext cx="533160" cy="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2192400"/>
            <a:ext cx="472464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848720" y="3352680"/>
            <a:ext cx="0" cy="76212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1963800"/>
            <a:ext cx="0" cy="45720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38880" y="3962520"/>
            <a:ext cx="83844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丸ｺﾞｼｯｸM-PRO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  <a:p>
            <a:pPr lvl="2" marL="914400" algn="ctr">
              <a:spcBef>
                <a:spcPts val="400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丸ｺﾞｼｯｸM-PRO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 lvl="3" marL="1371600" algn="ctr">
              <a:spcBef>
                <a:spcPts val="3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4" marL="1828800" algn="ctr">
              <a:spcBef>
                <a:spcPts val="3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400" y="2308320"/>
            <a:ext cx="5486400" cy="149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G丸ｺﾞｼｯｸM-PRO"/>
              </a:rPr>
              <a:t>オープンソース下流開発フレームワーク</a:t>
            </a:r>
            <a:r>
              <a:rPr b="0" lang="en-GB" sz="2800" spc="-1" strike="noStrike">
                <a:solidFill>
                  <a:srgbClr val="000000"/>
                </a:solidFill>
                <a:latin typeface="HG丸ｺﾞｼｯｸM-PRO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HG丸ｺﾞｼｯｸM-PRO"/>
              </a:rPr>
              <a:t>「</a:t>
            </a:r>
            <a:r>
              <a:rPr b="0" lang="en-GB" sz="3200" spc="-1" strike="noStrike">
                <a:solidFill>
                  <a:srgbClr val="000000"/>
                </a:solidFill>
                <a:latin typeface="HG丸ｺﾞｼｯｸM-PRO"/>
              </a:rPr>
              <a:t>blanco Framework</a:t>
            </a:r>
            <a:r>
              <a:rPr b="0" lang="en-GB" sz="3200" spc="-1" strike="noStrike">
                <a:solidFill>
                  <a:srgbClr val="000000"/>
                </a:solidFill>
                <a:latin typeface="HG丸ｺﾞｼｯｸM-PRO"/>
              </a:rPr>
              <a:t>」</a:t>
            </a:r>
            <a:br>
              <a:rPr sz="3200"/>
            </a:br>
            <a:r>
              <a:rPr b="0" lang="en-GB" sz="2800" spc="-1" strike="noStrike">
                <a:solidFill>
                  <a:srgbClr val="000000"/>
                </a:solidFill>
                <a:latin typeface="HG丸ｺﾞｼｯｸM-PRO"/>
              </a:rPr>
              <a:t>の最新動向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484280" y="4400640"/>
            <a:ext cx="6400800" cy="134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200</a:t>
            </a: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</a:rPr>
              <a:t>7.03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.</a:t>
            </a: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</a:rPr>
              <a:t>17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いがぴょん 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(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伊賀 敏樹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)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</a:rPr>
              <a:t>blanco Framework 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コミッタ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105" name=""/>
          <p:cNvSpPr/>
          <p:nvPr/>
        </p:nvSpPr>
        <p:spPr>
          <a:xfrm>
            <a:off x="7620120" y="304920"/>
            <a:ext cx="1218960" cy="368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公開文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バリューオブジェクト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706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定数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7480" y="1154160"/>
            <a:ext cx="896904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ファイル定義書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固定長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4600" y="1646280"/>
            <a:ext cx="87948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リソースバンドル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0760" y="1204920"/>
            <a:ext cx="864396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サービス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4978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AntTask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3320" y="1752480"/>
            <a:ext cx="89391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G丸ｺﾞｼｯｸM-PRO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G丸ｺﾞｼｯｸM-PRO"/>
              </a:rPr>
              <a:t>blanco Framework </a:t>
            </a: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</a:rPr>
              <a:t>コミッタ 自己紹介</a:t>
            </a:r>
            <a:br>
              <a:rPr sz="3000"/>
            </a:b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(2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: 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伊賀敏樹・山本耕司・内林宏武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G丸ｺﾞｼｯｸM-PRO"/>
              </a:rPr>
              <a:t>blanco Framework </a:t>
            </a: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</a:rPr>
              <a:t>ご紹介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(15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: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伊賀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</a:rPr>
              <a:t>その他の定義書の紹介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(5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: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伊賀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7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G丸ｺﾞｼｯｸM-PRO"/>
              </a:rPr>
              <a:t>blanco Framework </a:t>
            </a: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</a:rPr>
              <a:t>の最新動向</a:t>
            </a:r>
            <a:endParaRPr b="0" lang="en-US" sz="3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6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OSC2006 Tokyo/Fall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以降の変化 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(7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: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伊賀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  <a:p>
            <a:pPr lvl="2" marL="11430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G丸ｺﾞｼｯｸM-PRO"/>
              </a:rPr>
              <a:t>blancoDbDotNet</a:t>
            </a:r>
            <a:r>
              <a:rPr b="0" lang="ja-JP" sz="2200" spc="-1" strike="noStrike">
                <a:solidFill>
                  <a:srgbClr val="000000"/>
                </a:solidFill>
                <a:latin typeface="HG丸ｺﾞｼｯｸM-PRO"/>
              </a:rPr>
              <a:t>の</a:t>
            </a:r>
            <a:r>
              <a:rPr b="0" lang="en-US" sz="2200" spc="-1" strike="noStrike">
                <a:solidFill>
                  <a:srgbClr val="000000"/>
                </a:solidFill>
                <a:latin typeface="HG丸ｺﾞｼｯｸM-PRO"/>
              </a:rPr>
              <a:t>ODP.NET</a:t>
            </a:r>
            <a:r>
              <a:rPr b="0" lang="ja-JP" sz="2200" spc="-1" strike="noStrike">
                <a:solidFill>
                  <a:srgbClr val="000000"/>
                </a:solidFill>
                <a:latin typeface="HG丸ｺﾞｼｯｸM-PRO"/>
              </a:rPr>
              <a:t>対応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(1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: 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内林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G丸ｺﾞｼｯｸM-PRO"/>
              </a:rPr>
              <a:t>JExcelApi</a:t>
            </a: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</a:rPr>
              <a:t>日本語化パッチへの取り組み</a:t>
            </a:r>
            <a:br>
              <a:rPr sz="3000"/>
            </a:b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(5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: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山本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</a:rPr>
              <a:t>質疑応答・意見交流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(10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丸ｺﾞｼｯｸM-PRO"/>
              </a:rPr>
              <a:t>その他の定義書の紹介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907640" y="4267080"/>
            <a:ext cx="567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※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「</a:t>
            </a: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blanco Framework 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ご紹介」 の後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電文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73080" y="1071720"/>
            <a:ext cx="755964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電文処理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92000" y="1071720"/>
            <a:ext cx="774072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バッチ処理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8000" y="1224000"/>
            <a:ext cx="89535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グループ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62616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グループ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848720" cy="46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メッセージ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68360" y="1069920"/>
            <a:ext cx="82803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db</cp:lastModifiedBy>
  <dcterms:modified xsi:type="dcterms:W3CDTF">2007-03-16T06:00:15Z</dcterms:modified>
  <cp:revision>345</cp:revision>
  <dc:subject/>
  <dc:title>blanco Framework ご紹介</dc:title>
</cp:coreProperties>
</file>