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B9BA-33DA-4D9D-A7DA-1CD985BC8445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A608-EA7C-49DF-9425-48610679ABD2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Kvasir/Sora 3</a:t>
            </a:r>
            <a:br>
              <a:rPr sz="4400"/>
            </a:b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Pluggabl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なアプリケーションコンテ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横田　健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プラグインで拡張可能なアプリケーションコンテ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いろいろなプラグインを組み合わせてオリジナル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イトを簡単に構築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使ってみて、次にプラグインを書いてみていただければうれしいで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るべく早くリリースできるよう頑張ります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m( )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横田　健彦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kirni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かりにくいハンドルですいません、「スキールニル」と読み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イト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kvasir.skirnir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構築してい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住まい：東京都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北の方で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特徴：北欧神話フリーク、阪神ファ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仲間募集中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クヴァシル・そら）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ブレットベースのコンテンツ管理システ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ちょっぴ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風（管理画面はかな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カスタマイズの自由度高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ブログなどのアプリケーションも追加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名前の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=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機の名前、北欧神話の神様の名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ora=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息子の名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覚えづ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独自仕様が多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ンテナンスしづ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ップグレードしづら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次世代版（バージョン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kvasir.sandbox.seasar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アプリケーションプラットフォー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プリケーションとしてサーブレットコンテナ上で動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ライクなプラグインアーキテクチャを採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機能追加が容易、ブログアプリ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覚えやす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プラグイン作成手順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プラグイン作成手順とかなり類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プラグインのアップグレードも簡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ベ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の開発効率向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宅サイトを構築した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だったら作ってなかった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^^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より使いやすいシステムにした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誰でも覚えやすく使いやすいシステムを目指し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わよくばプラグインを作ってもらえたら助かる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プラグインアーキテクチャに感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っぽ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あったら楽しそ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定義ファイル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lugin.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905120"/>
            <a:ext cx="8076960" cy="4343400"/>
          </a:xfrm>
          <a:prstGeom prst="rect">
            <a:avLst/>
          </a:prstGeom>
          <a:solidFill>
            <a:srgbClr val="cc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plugin id="net.seasar.kvasir.plugin.blog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ame="%plugin.name“ version=“1.0.0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ovider-name="%plugin.provider-name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ass="net.seasar.kvasir.plugin.blog.BlogPlugi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ntainer config="plugin.dicon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run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library name="conf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library name=“blog-1.0.0.jar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run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requir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import plugin="net.seasar.kvasir.plugin.page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requir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2133720"/>
            <a:ext cx="182880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基本的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定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3505320"/>
            <a:ext cx="36576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プラグイン用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の定義ファイ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114800"/>
            <a:ext cx="365760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利用ライブラリ・リソー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5105520"/>
            <a:ext cx="1752480" cy="838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依存プラグイ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だ動きません…。プラグインできてません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近日中に基本部を完成させ今後ブログプラグイン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を開発予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4076640" cy="3310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0384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イト構築例（雰囲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5410080"/>
            <a:ext cx="7619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Arial"/>
              </a:rPr>
              <a:t>Kvasir/S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4191120"/>
            <a:ext cx="1905120" cy="1218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掲示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91120"/>
            <a:ext cx="1904760" cy="1218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191120"/>
            <a:ext cx="190512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ユーザ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4191120"/>
            <a:ext cx="190476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00280" y="15238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ログを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47080" y="19810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掲示板を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23120" y="24382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会員制掲示板も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18960" y="2895480"/>
            <a:ext cx="50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イトの見た目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y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ンプレートで記述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0600" y="106668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ず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インスト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56560" y="342900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3300"/>
                </a:solidFill>
                <a:latin typeface="Arial"/>
              </a:rPr>
              <a:t>プラグインの追加で自由に拡張可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使ってみてフィードバックを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ラグインを作っ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系プラグインのデザインを考えて下さい、アイコン作っ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チュートリアルドキュメント書い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、お願いは尽きませんが、まずは興味を持っていただければうれしいで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羽生　章洋</dc:creator>
  <dc:description/>
  <dc:language>en-US</dc:language>
  <cp:lastModifiedBy>羽生　章洋</cp:lastModifiedBy>
  <dcterms:modified xsi:type="dcterms:W3CDTF">2005-07-13T07:44:21Z</dcterms:modified>
  <cp:revision>575</cp:revision>
  <dc:subject/>
  <dc:title>くーす本の内容を先取り！ DI時代の業務システム構築技法 ～業務分析からシステム設計・開発までを一気に突っ走る～</dc:title>
</cp:coreProperties>
</file>