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427640" y="6597720"/>
            <a:ext cx="446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00720" y="6597720"/>
            <a:ext cx="464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C590-035F-4E41-8F15-5129DAC49828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27640" y="6597720"/>
            <a:ext cx="446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00720" y="6597720"/>
            <a:ext cx="464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5E14-B59C-433F-9082-66D4DB9A9DCC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 Strategies Day 2005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Op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5.4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の成果と課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JS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リリ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i18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進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課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運営体制の整備とさらなるスタッフ増員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特に、インフラ系・ドキュメント系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より一層の認知向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国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海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務適用への安心性向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支援体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学習支援（勉強会の開催やドキュメント拡充など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課題達成に向けて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つの戦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66880" y="2362320"/>
            <a:ext cx="7467480" cy="40384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nership 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09880" y="3733920"/>
            <a:ext cx="5181480" cy="2590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 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91040" y="4815000"/>
            <a:ext cx="2819160" cy="144756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1371600"/>
            <a:ext cx="259092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25981"/>
              <a:gd name="adj5" fmla="val 213282"/>
              <a:gd name="adj6" fmla="val 15717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ユーザに対する商用サポー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運営へのサポー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3429000"/>
            <a:ext cx="2590920" cy="380880"/>
          </a:xfrm>
          <a:prstGeom prst="borderCallout2">
            <a:avLst>
              <a:gd name="adj1" fmla="val 18750"/>
              <a:gd name="adj2" fmla="val -8333"/>
              <a:gd name="adj3" fmla="val 30000"/>
              <a:gd name="adj4" fmla="val 115930"/>
              <a:gd name="adj5" fmla="val 202500"/>
              <a:gd name="adj6" fmla="val 1334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運営体制の確立・整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0" y="4786200"/>
            <a:ext cx="2133720" cy="533520"/>
          </a:xfrm>
          <a:prstGeom prst="borderCallout2">
            <a:avLst>
              <a:gd name="adj1" fmla="val 18750"/>
              <a:gd name="adj2" fmla="val -8333"/>
              <a:gd name="adj3" fmla="val 21430"/>
              <a:gd name="adj4" fmla="val -23138"/>
              <a:gd name="adj5" fmla="val 161606"/>
              <a:gd name="adj6" fmla="val -558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新プロダクトの開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ドキュメントの整備・拡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本日のテー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66880" y="2362320"/>
            <a:ext cx="7467480" cy="40384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nership 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09880" y="3733920"/>
            <a:ext cx="5181480" cy="2590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 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91040" y="4815000"/>
            <a:ext cx="2819160" cy="144756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1371600"/>
            <a:ext cx="289584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18750"/>
              <a:gd name="adj5" fmla="val 213282"/>
              <a:gd name="adj6" fmla="val 1406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電通国際情報サービス様との協力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OSCJ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への参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429000"/>
            <a:ext cx="2590920" cy="380880"/>
          </a:xfrm>
          <a:prstGeom prst="borderCallout2">
            <a:avLst>
              <a:gd name="adj1" fmla="val 18750"/>
              <a:gd name="adj2" fmla="val -8333"/>
              <a:gd name="adj3" fmla="val 30000"/>
              <a:gd name="adj4" fmla="val 115930"/>
              <a:gd name="adj5" fmla="val 202500"/>
              <a:gd name="adj6" fmla="val 1334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設立に向け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4800600"/>
            <a:ext cx="2286000" cy="533520"/>
          </a:xfrm>
          <a:prstGeom prst="borderCallout2">
            <a:avLst>
              <a:gd name="adj1" fmla="val 18750"/>
              <a:gd name="adj2" fmla="val -8333"/>
              <a:gd name="adj3" fmla="val 21430"/>
              <a:gd name="adj4" fmla="val -24097"/>
              <a:gd name="adj5" fmla="val 158930"/>
              <a:gd name="adj6" fmla="val -520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Kuina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EJB3.0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への対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04:58:21Z</dcterms:created>
  <dc:creator>羽生　章洋</dc:creator>
  <dc:description/>
  <dc:language>en-US</dc:language>
  <cp:lastModifiedBy>羽生　章洋</cp:lastModifiedBy>
  <dcterms:modified xsi:type="dcterms:W3CDTF">2005-04-21T05:43:52Z</dcterms:modified>
  <cp:revision>30</cp:revision>
  <dc:subject/>
  <dc:title>Seasar Strategies Day 2005 Opening</dc:title>
</cp:coreProperties>
</file>