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59280" y="2602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1280" y="-1440"/>
            <a:ext cx="9072720" cy="6815160"/>
            <a:chOff x="71280" y="-1440"/>
            <a:chExt cx="9072720" cy="6815160"/>
          </a:xfrm>
        </p:grpSpPr>
        <p:sp>
          <p:nvSpPr>
            <p:cNvPr id="1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1280" y="-1440"/>
              <a:ext cx="2916360" cy="13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619280" y="836640"/>
              <a:ext cx="752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4068629-EC68-4663-B7AD-7C5EBC7365A5}" type="slidenum"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95280" y="1268280"/>
            <a:ext cx="8748720" cy="5545440"/>
            <a:chOff x="395280" y="1268280"/>
            <a:chExt cx="8748720" cy="55454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395280" y="1268280"/>
              <a:ext cx="360036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340000" y="2349360"/>
              <a:ext cx="680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43280" y="6597720"/>
              <a:ext cx="41198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900" spc="-1" strike="noStrike">
                  <a:solidFill>
                    <a:srgbClr val="000000"/>
                  </a:solidFill>
                  <a:latin typeface="Tahoma"/>
                </a:rPr>
                <a:t>© Copyright The Seasar Project and others 2004. all rights reserved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3280" y="6597720"/>
              <a:ext cx="450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748720" y="6454800"/>
              <a:ext cx="287280" cy="287280"/>
            </a:xfrm>
            <a:prstGeom prst="ellipse">
              <a:avLst/>
            </a:prstGeom>
            <a:solidFill>
              <a:srgbClr val="ff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9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お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初期版～スターロジック用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 V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400"/>
            </a:b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新しい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別名「ひがやすおと愉快な仲間たち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ミッ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盛り上げることを通じて、ソフトウェア開発の現場をより楽しく、より幸せにしていく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役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ひがさんのやる気を損ねない（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々周辺の雑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SourceForg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メンテ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まめな宴会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知ってもらうためのマーケティ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担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特に何も決めていませ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　皆さん、どんどん「自由に」何でも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やっちゃっ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高井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2602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3:49:45Z</dcterms:created>
  <dc:creator>Masataka Kurihara</dc:creator>
  <dc:description/>
  <dc:language>en-US</dc:language>
  <cp:lastModifiedBy>higa</cp:lastModifiedBy>
  <dcterms:modified xsi:type="dcterms:W3CDTF">2004-09-09T02:23:24Z</dcterms:modified>
  <cp:revision>44</cp:revision>
  <dc:subject/>
  <dc:title>スライド 1</dc:title>
</cp:coreProperties>
</file>