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4F97-D61F-447F-9FC3-AD39501A4E1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807A-412E-46E3-AA1B-E906CF0569A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29Z</dcterms:modified>
  <cp:revision>117</cp:revision>
  <dc:subject/>
  <dc:title>スライド 1</dc:title>
</cp:coreProperties>
</file>