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56C9-A4F1-4719-8E21-CFC6CD5BC5D5}"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8:07Z</dcterms:modified>
  <cp:revision>14</cp:revision>
  <dc:subject/>
  <dc:title>スライド 1</dc:title>
</cp:coreProperties>
</file>