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1EE43A9-E59F-438E-83EF-55A032ECEA36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7.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新しい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高井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7-15T15:02:57Z</dcterms:modified>
  <cp:revision>43</cp:revision>
  <dc:subject/>
  <dc:title>スライド 1</dc:title>
</cp:coreProperties>
</file>