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4F54-AF28-4D31-AB32-1D620B083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C468-A5D4-478C-B30C-87AFA04E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68B1-2B4D-4AA7-882D-8DE2B4961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CD37-4D19-4510-96C7-5D2C9E32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FD62-742E-47EC-9240-240C17CE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1623-2F55-41AC-AF87-5B545FFA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5BC5-D6B3-4F73-B8F6-11E7EF58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8113-89D4-450C-9671-4F4C2FE2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D595-0C20-49D9-830B-84A24BF9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69AC-52E7-462E-806D-8DFFB26C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5EA5-BAEB-4448-8671-12DDB00C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4087-6A4B-4BDC-9128-0833B8A7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3A1C-B72A-46BA-A833-875A21C86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67280" cy="443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572000"/>
            <a:ext cx="3657600" cy="4572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0292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334120"/>
            <a:ext cx="35049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400800" cy="136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590920"/>
            <a:ext cx="609840" cy="53316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312408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3505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90680" y="1909800"/>
            <a:ext cx="636264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2209680"/>
            <a:ext cx="5029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ファイル属性の確認。アーカイブ属性のみ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8195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読み取り専用属性と隠しファイル属性を付加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7339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隠しファイル属性を外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たかはしもとのぶ</cp:lastModifiedBy>
  <dcterms:modified xsi:type="dcterms:W3CDTF">2006-05-05T05:21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