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  <p:custShowLst>
    <p:custShow name="Custom Show 1" id="0">
      <p:sldLst>
        <p:sld r:id="rId15"/>
        <p:sld r:id="rId18"/>
        <p:sld r:id="rId16"/>
        <p:sld r:id="rId17"/>
        <p:sld r:id="rId19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41A13-572E-4B1B-8BBC-C3A592B6F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2D3A1-F4C2-469C-980E-526519C01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738A16-5806-42E3-8027-C9F6E28A5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0E9D24-9DD0-42B3-BA9A-DC6A8C705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4A47D6-B551-4544-9A60-5267E095F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8CC03A-1D34-47EF-9014-D176CA54E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661D2D-32E8-4E7F-B068-590D8E5BE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9F80C2-21EC-4901-B828-13B8B6B64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8B3864-7836-498C-AC94-BE339A687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67BA81-DC35-4363-B680-4CC9C0A24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1F0E32-E732-4A51-BC57-64F3A08F2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7D0A26E-6EC7-4F4D-BF5B-0C08FE9F7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A4B75-3E7F-4BA0-8848-0F67C9163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D52C49E-D416-4180-9E79-6D7C8631C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27AFC06-079F-41A8-B58B-9F2FCFD08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0B325A9-8FE6-4561-A0EA-8732347BF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BA90FD8-CD24-4844-AA70-3161556FD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9780B87-CA6F-408F-99A6-8462EFCF0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CE945B7-AEF0-4016-A77A-E02855772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78557FE-1655-496F-954B-435C90032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8E93AF8-6278-49E3-A9C4-E54985F76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6064491-5274-4F00-884E-D52D4435A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3A7A1F4-75DA-471C-B8F9-33D0A3CE4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0169D-6CFE-44BF-B59A-7BEC2D94D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1B09787-9D03-4A36-884D-648954236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38BCBD-4964-45A3-8B47-A42761A4B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2E3700-A78C-4C9D-9B0E-8B7723E26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1EA241-526F-40FF-9B74-5260D05BF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A3FB90-32F7-40F1-9951-DFFDD485D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60D1A2-652E-4B61-8454-AFD6C092F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DB41D8-2BD9-4258-897E-D6A2F4EDA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EB1C06-0E50-4BC0-AF1C-1952C3B3B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884E91-4061-403D-9A78-DEC8FF00F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720040-4A2D-4AA3-BA57-E7F118B53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B48E3-9D50-4787-9FBB-7F46585DA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EF2F5B-D6D0-4790-824A-D082A2DCB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3C6B81-5F5B-4337-B933-2032C6AEE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04360C-F1CA-40DF-8FC5-85684656A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301868-DDC6-4CDB-AFE1-BC44A1129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3A87B4-0C60-48B8-8AC9-63334BF10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6E72F2-85CF-4D16-A7EC-0059D0517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01A6F8-8F2F-4F50-A59B-FFA890D45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FC0AF5-AE22-4D18-ABAB-E693D3882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820248-136C-4E3C-8057-B6525A66A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171813-EABA-4955-9F29-0F9D1D6BB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62CA7-8850-45ED-98BD-009AB20F2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33E66E-417F-41A4-84A4-3678EB4D0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A1F856-9681-40C8-8365-206ECD6CF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448E3D-9DCD-4971-B896-CDB7E9434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E06E0E-978A-4474-89C6-F8340738C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2F3D37-EDA8-470C-96F9-01BE1C1A1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C5D0F-8136-4641-9FC9-46A1D66A1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46D29-238A-478C-90B8-E0B4D9957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97A35-27AA-4FFA-B116-8970F011F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5D8ED-BEF5-4366-9180-5C7ACF5A5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02813-3A48-4862-8BE3-4255DBDD9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FD11E-C6E7-4C9F-9DEF-970104973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D7000-87F5-4DA3-ACF7-74F0F3F77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C8A20-6230-4A99-ADF5-A828A8DC3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FCB16-7F95-4174-9F08-1916B2893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4F617-07C4-48A9-960E-B88020939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20DD0-BBCB-4C69-AE1A-6F0ADD931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D0E717-1B81-4AB6-ADCA-511A68436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3CA349-39D5-4915-AD1F-0B9C44A57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167E92-31DE-4B88-8E94-4B975AE69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1CB777-B662-444E-8845-4BE9CED6A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7F5EBE-0832-47E4-B6B8-CF7977A92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F64EF-7C65-4675-889D-EA41D0689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990D34-65D2-4379-BECB-7D30D7316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7059D5-2BDE-4512-8EF4-0135884DE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C2B3CB-2B7C-46FD-8AC7-13C6BD11B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DF401F-B601-4B5C-A7B3-AAAA9C807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C59F24-818E-4FC9-A83E-9A45EBF61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26CA75-0BBF-4F87-830B-D5368C2B8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775349-36BD-4D19-A72F-44A11F8AB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09D64A-D5D0-4DDE-8C36-DCBB3D45B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3FB422-F975-4390-8454-EB703399F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D6B3ED-3E9D-461B-883B-BCBBD554A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3802B-61AF-4792-A322-D0968FB0C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0E3583-01B8-4112-966A-254C8657E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4C21F3-AF24-431A-8665-A1C574553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CAE940-90E1-4D67-B15D-87342489B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B4ED86-68FA-450C-82F0-C7CF67A67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CCDD26-DA3B-4462-902D-FC30F1299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6A7B2B-C4CC-40DB-9D19-1B212EF88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0A69D9-A2E8-49C6-B13F-93059C3B1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9CDBE4-C8C4-44C6-9A0E-0A5078C68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0B2161-8088-4209-910E-F30ED7E8D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FAC7C13-9DD1-40A1-AC8C-0576F447A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CA683-581E-4543-A7BC-D62BA4340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E09D7EC-788A-4C09-A4F6-3EB07D89D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C30A23D-84D1-48CB-AB43-2CD6C8594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4F5B823-6587-496E-9448-DBD8C8BE7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305B637-E7CE-4DA7-8A79-8ADF283AC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F111925-4DB9-45D9-AF10-846FC31AD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431CECA-FCFA-4A06-B81A-FB2A37C17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0979F31-5540-47B7-B30A-FF94B034A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61D92DB-8014-42DB-8D5C-C34578888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0090EBF-B000-4186-A860-5F6AA3E44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91987C9-9FC5-4947-B919-1E6A288EF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8AEA4-3425-436E-AA57-6E7EBEDEE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9D7515B-4C6A-4265-8264-FDD93D555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BB8D1C-AEB7-4A5C-A5F2-50D3D2473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ABC707-42B3-4C1A-AE0D-9C1917223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1A743E-3129-4275-A0A0-56DF6C94A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1F4A6F-1B71-4CAC-B37A-90A7AF821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A45AA8-70EB-4CFF-B352-6E60FA486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CD5749-060C-43EF-BC45-B4E765247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182327-489C-4667-B84C-03238C743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5AE87D-6A57-49AF-99CF-25AFC8E97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C08F44-67DD-4B4E-91B6-7D51A6C25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6EEDB-2E38-4A82-B2DA-5DBA7F3E2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9EBC2E-0D55-436F-B99F-CEAD88C7E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7578DF-EE60-4F92-B4CD-677157463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6F7DB0-2E4C-4E5E-939B-2480CE357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2A34C6-DA65-42F2-8994-8B54E13B3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4389E7-7791-4296-AE04-7C1544807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152F33-6FE0-4594-A104-817BAEAFB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59F94E-42C5-4F74-A13A-71A9B4377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768F4C-96E5-42B4-BE69-C11468D37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038E81-0C67-4AD4-B44A-967C8F658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FC9AE8-C44E-4CC8-83D8-E24530FA7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0D62B-063E-4732-8EFB-EE3DEEFBD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1B4825-E937-4978-9EA7-5F214C586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77221A-D519-4A9C-9796-AAB81860F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830C44-FBB5-4BCA-9926-605010A6F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78D3B1-3C46-4493-8FED-774720197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B70433-3AD8-44E8-BB88-B96271869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B7A5DD-7AE3-40D1-AC68-CC9642DF0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5304B4-47A7-4C63-8068-9F1729361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15942F-F80C-4F02-97BA-96F29D2EE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1F9FAF-4936-41A8-8852-399121878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38C326-F63C-4AD1-80BB-2CFADBC62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51DD5-B2E4-4542-A7C2-B5E7FAEC4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8C60B1-7C33-44A3-BC57-376E700E1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559AEB-984F-4EB1-BD02-566DEBB64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3D4546-BEB7-4BB6-AF32-94BB857AA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903257-5B6B-48F1-BD67-47535AE1C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591025-7C61-4711-84D1-7F558A904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9EC4E7-C3E4-4B5E-B4A2-A9456F475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314BBD-4AC3-4C12-A724-A4D3568AB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7935B8-B228-4CA9-BBE5-393D2E528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CE7CB4-208E-46F8-BD43-D8D5905AC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0F609A-0961-4BF6-82BB-8DA5BBA7E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2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9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1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7E91E-1302-4890-AB99-10B41A842823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01555-A42C-46C7-AD61-8DCAF89AB7CE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7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018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0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1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022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23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024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29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0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031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EBCEF-C659-4542-AF41-3572652EE99B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sldNum" idx="2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D70C5-48A0-4C13-A50D-3CAC22965F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3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07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C0C18-3BC2-4CB6-B538-20436511572F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A5D40-302E-4474-8187-AAD9A9295233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4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135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A2937-91ED-42A0-BDD7-1F725C3028FB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902F7-CBA7-4485-8833-DD56C675B66A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75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77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14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6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7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1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2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4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5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6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7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0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1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4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6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27420-E388-46F2-97F8-0CD680C9A819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35BDB-A846-41C1-B251-67CA5C1EC18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3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E3BA0-D97F-4C9D-B0B4-243744701C18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FABA1-70BA-44B5-A0FF-0A340AAA41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9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18F0D-19F2-4431-8AE9-F32C3C851645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F22EB-6C36-45D5-A8A5-ABBB96E774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49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5A597-F143-4ADA-8C68-A13F1DA33F20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 type="dt" idx="1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B288A-EF1F-4C20-9485-BB2FCF62DF2E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1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512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78C61-529C-44D7-AC13-DC52BCFB9A80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900AA-A8E3-4DB8-8562-0C74C109E3F9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3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574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575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88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589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dt" idx="1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6F872-E982-4630-9472-9C8940EE9F8E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C550F-ABC6-47AE-A2C1-39AB3667D10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5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766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767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781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 type="dt" idx="22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81B3F-6E70-461B-946D-BA54E718EC96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80E88-D5D1-4959-92FF-AAF6A6D93252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57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59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0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961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2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963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8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9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970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CC673-A1C7-48B2-AE95-B0E926630E25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E70A4-510B-4631-9DE5-A832011C52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berlin.de/buergeraktiv/content_aktuell.php?imperia_id=20051105.22263.html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66"/>
                </a:solidFill>
                <a:uFillTx/>
                <a:latin typeface="Arial"/>
              </a:rPr>
              <a:t>Berliner Zeitung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1" name="" descr=""/>
          <p:cNvPicPr/>
          <p:nvPr/>
        </p:nvPicPr>
        <p:blipFill>
          <a:blip r:embed="rId1"/>
          <a:stretch/>
        </p:blipFill>
        <p:spPr>
          <a:xfrm>
            <a:off x="1042920" y="4292640"/>
            <a:ext cx="2714760" cy="21524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2" name="" descr=""/>
          <p:cNvPicPr/>
          <p:nvPr/>
        </p:nvPicPr>
        <p:blipFill>
          <a:blip r:embed="rId2"/>
          <a:stretch/>
        </p:blipFill>
        <p:spPr>
          <a:xfrm>
            <a:off x="2052720" y="2567160"/>
            <a:ext cx="2712960" cy="21650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3" name="" descr=""/>
          <p:cNvPicPr/>
          <p:nvPr/>
        </p:nvPicPr>
        <p:blipFill>
          <a:blip r:embed="rId3"/>
          <a:stretch/>
        </p:blipFill>
        <p:spPr>
          <a:xfrm>
            <a:off x="3995640" y="3938760"/>
            <a:ext cx="2652840" cy="21873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1194" name=""/>
          <p:cNvSpPr/>
          <p:nvPr/>
        </p:nvSpPr>
        <p:spPr>
          <a:xfrm>
            <a:off x="1166760" y="5681520"/>
            <a:ext cx="2613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5" name="" descr=""/>
          <p:cNvPicPr/>
          <p:nvPr/>
        </p:nvPicPr>
        <p:blipFill>
          <a:blip r:embed="rId4"/>
          <a:stretch/>
        </p:blipFill>
        <p:spPr>
          <a:xfrm>
            <a:off x="5003640" y="981000"/>
            <a:ext cx="2714760" cy="21621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6" name="" descr=""/>
          <p:cNvPicPr/>
          <p:nvPr/>
        </p:nvPicPr>
        <p:blipFill>
          <a:blip r:embed="rId5"/>
          <a:stretch/>
        </p:blipFill>
        <p:spPr>
          <a:xfrm>
            <a:off x="5940360" y="2708280"/>
            <a:ext cx="2759040" cy="218592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4D1C4-D102-4FF8-9E47-33CB146FD49E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B3D65A-3E47-4F3E-832E-0EC2609ABFA0}" type="datetime1">
              <a:rPr lang="en-US"/>
              <a:t>07/29/26</a:t>
            </a:fld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4" dur="1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7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3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9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Der Königlichen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Wel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98" name="" descr=""/>
          <p:cNvPicPr/>
          <p:nvPr/>
        </p:nvPicPr>
        <p:blipFill>
          <a:blip r:embed="rId1"/>
          <a:stretch/>
        </p:blipFill>
        <p:spPr>
          <a:xfrm>
            <a:off x="5796000" y="1484280"/>
            <a:ext cx="2857320" cy="4334040"/>
          </a:xfrm>
          <a:prstGeom prst="rect">
            <a:avLst/>
          </a:prstGeom>
          <a:ln w="34920">
            <a:solidFill>
              <a:srgbClr val="000000"/>
            </a:solidFill>
            <a:miter/>
          </a:ln>
        </p:spPr>
      </p:pic>
      <p:sp>
        <p:nvSpPr>
          <p:cNvPr id="1199" name=""/>
          <p:cNvSpPr/>
          <p:nvPr/>
        </p:nvSpPr>
        <p:spPr>
          <a:xfrm>
            <a:off x="3903840" y="4313160"/>
            <a:ext cx="412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395280" y="2060640"/>
            <a:ext cx="5473800" cy="37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40000"/>
              </a:lnSpc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Kompakte Reiseführer, Broschüren, Bildbände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Individuelle Stadtführungen zu Fuß, mit Limousine oder Bus mit spannenden Erzählungen.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Besuch in der Königlichen Porzellan-Manufaktur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Die Berliner Parks und Tiergärten Ideal für die Erholung zwischendurch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CF6232-37A2-443B-815F-3A355029DA2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fld id="{6F5A2B25-0B48-4921-A77C-F701E1FDC317}" type="datetime1">
              <a:rPr lang="en-US"/>
              <a:t>07/29/26</a:t>
            </a:fld>
          </a:p>
        </p:txBody>
      </p:sp>
    </p:spTree>
  </p:cSld>
  <p:transition>
    <p:cover dir="d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9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3" dur="500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5" dur="5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9" dur="2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2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str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str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5" dur="5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7" dur="5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131" dur="2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from="(#ppt_x)" to="(#ppt_x+1)">
                                      <p:cBhvr additive="repl">
                                        <p:cTn id="1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6" dur="2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7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  <p:to>
                                        <p:strVal val="-1"/>
                                      </p:to>
                                    </p:se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2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23640" y="549000"/>
            <a:ext cx="727236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buSzPct val="13374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en-US" sz="4400" spc="-1" strike="noStrike" u="sng">
                <a:solidFill>
                  <a:srgbClr val="000066"/>
                </a:solidFill>
                <a:uFillTx/>
                <a:latin typeface="Times New Roman"/>
              </a:rPr>
              <a:t>Bildmotiv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995280" y="1844640"/>
            <a:ext cx="41166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Oberbaum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iegessäu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Kurfürstenda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Gedächtniskir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chloss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Unter den Linden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spcBef>
                <a:spcPts val="601"/>
              </a:spcBef>
              <a:buClr>
                <a:srgbClr val="fee1a8"/>
              </a:buClr>
              <a:buSzPct val="9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3" name="" descr=""/>
          <p:cNvPicPr/>
          <p:nvPr/>
        </p:nvPicPr>
        <p:blipFill>
          <a:blip r:embed="rId8"/>
          <a:stretch/>
        </p:blipFill>
        <p:spPr>
          <a:xfrm>
            <a:off x="838080" y="1798560"/>
            <a:ext cx="2370240" cy="4133880"/>
          </a:xfrm>
          <a:prstGeom prst="rect">
            <a:avLst/>
          </a:prstGeom>
          <a:ln w="38160">
            <a:solidFill>
              <a:srgbClr val="ffcc99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5250A1-419B-4AFD-90E6-04723BADC08E}" type="slidenum">
              <a:t>3</a:t>
            </a:fld>
          </a:p>
        </p:txBody>
      </p:sp>
    </p:spTree>
  </p:cSld>
  <p:transition>
    <p:comb dir="horz"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8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000"/>
                            </p:stCondLst>
                            <p:childTnLst>
                              <p:par>
                                <p:cTn id="16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2000"/>
                            </p:stCondLst>
                            <p:childTnLst>
                              <p:par>
                                <p:cTn id="17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3000"/>
                            </p:stCondLst>
                            <p:childTnLst>
                              <p:par>
                                <p:cTn id="17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4000"/>
                            </p:stCondLst>
                            <p:childTnLst>
                              <p:par>
                                <p:cTn id="18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5000"/>
                            </p:stCondLst>
                            <p:childTnLst>
                              <p:par>
                                <p:cTn id="19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-324000" y="549000"/>
            <a:ext cx="979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Tahoma"/>
              </a:rPr>
              <a:t>Märchenstunde in Berlin</a:t>
            </a: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3800"/>
            </a:b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205" name=""/>
          <p:cNvGraphicFramePr/>
          <p:nvPr/>
        </p:nvGraphicFramePr>
        <p:xfrm>
          <a:off x="1042920" y="2276640"/>
          <a:ext cx="4249800" cy="1852560"/>
        </p:xfrm>
        <a:graphic>
          <a:graphicData uri="http://schemas.openxmlformats.org/drawingml/2006/table">
            <a:tbl>
              <a:tblPr/>
              <a:tblGrid>
                <a:gridCol w="790920"/>
                <a:gridCol w="903240"/>
                <a:gridCol w="1041120"/>
                <a:gridCol w="1514520"/>
              </a:tblGrid>
              <a:tr h="91440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€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ü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öck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üse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ä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tü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wäc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06" name="" descr="Märchent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95640" y="4221000"/>
            <a:ext cx="2664000" cy="1184400"/>
          </a:xfrm>
          <a:prstGeom prst="rect">
            <a:avLst/>
          </a:prstGeom>
          <a:ln w="25560">
            <a:solidFill>
              <a:srgbClr val="ffffcc"/>
            </a:solidFill>
            <a:miter/>
          </a:ln>
        </p:spPr>
      </p:pic>
      <p:sp>
        <p:nvSpPr>
          <p:cNvPr id="1207" name=""/>
          <p:cNvSpPr/>
          <p:nvPr/>
        </p:nvSpPr>
        <p:spPr>
          <a:xfrm rot="20019000">
            <a:off x="1186560" y="5096160"/>
            <a:ext cx="15372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. Jubiläu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 rot="1115400">
            <a:off x="5097240" y="1923120"/>
            <a:ext cx="335232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om 5. bis 21. November 2004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 rot="20671200">
            <a:off x="6369840" y="3299040"/>
            <a:ext cx="17154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unstmärch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 rot="20835000">
            <a:off x="1210680" y="1550880"/>
            <a:ext cx="28569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0.000 Besucher erwarte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 rot="21095400">
            <a:off x="4429440" y="5823000"/>
            <a:ext cx="34635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0 verschiedenen Institution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4B0C586-6CB0-4DD9-9CA8-6386B5AF0A14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fld id="{437BB7CF-21A2-4422-940C-2D9ECF574A64}" type="datetime1">
              <a:rPr lang="en-US"/>
              <a:t>07/29/26</a:t>
            </a:fld>
          </a:p>
        </p:txBody>
      </p:sp>
    </p:spTree>
  </p:cSld>
  <p:transition>
    <p:wedge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6" dur="20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2000"/>
                            </p:stCondLst>
                            <p:childTnLst>
                              <p:par>
                                <p:cTn id="20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0" dur="20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4000"/>
                            </p:stCondLst>
                            <p:childTnLst>
                              <p:par>
                                <p:cTn id="21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4" dur="20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8" dur="20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8000"/>
                            </p:stCondLst>
                            <p:childTnLst>
                              <p:par>
                                <p:cTn id="22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2" dur="20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4" dur="2000" fill="hold"/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5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6" dur="20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7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8" dur="20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9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0" dur="20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1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2" dur="20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4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5000"/>
                            </p:stCondLst>
                            <p:childTnLst>
                              <p:par>
                                <p:cTn id="23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482400" y="351000"/>
            <a:ext cx="798660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cc"/>
                </a:solidFill>
                <a:uFillTx/>
                <a:latin typeface="Arial"/>
              </a:rPr>
              <a:t>Rückschau erster Wettbewerb vereinaktiv, Thema "Kinder"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539280" y="2062080"/>
            <a:ext cx="4681800" cy="40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Kreuzberger Wrangelki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„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Buchstabenoffensive“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Angebote für Kinder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Schmökerkist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as literarische Kinderkiezquartett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Jury kam zu dem Schlus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Handeln für ein soziales Problem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5392800" y="1927080"/>
            <a:ext cx="2882880" cy="40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Famili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Im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Täg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Leben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Kinder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Jugend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Erwachsenen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1D3453-A696-440B-9BBB-4A9C0110CB5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fld id="{AD7871AE-D8F8-403B-86AF-B3542D43ACCA}" type="datetime1">
              <a:rPr lang="en-US"/>
              <a:t>07/29/26</a:t>
            </a:fld>
          </a:p>
        </p:txBody>
      </p:sp>
    </p:spTree>
  </p:cSld>
  <p:transition>
    <p:wipe dir="d"/>
  </p:transition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0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898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898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1000"/>
                            </p:stCondLst>
                            <p:childTnLst>
                              <p:par>
                                <p:cTn id="26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898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2000"/>
                            </p:stCondLst>
                            <p:childTnLst>
                              <p:par>
                                <p:cTn id="26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898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3000"/>
                            </p:stCondLst>
                            <p:childTnLst>
                              <p:par>
                                <p:cTn id="27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898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4000"/>
                            </p:stCondLst>
                            <p:childTnLst>
                              <p:par>
                                <p:cTn id="28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898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5000"/>
                            </p:stCondLst>
                            <p:childTnLst>
                              <p:par>
                                <p:cTn id="29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898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6000"/>
                            </p:stCondLst>
                            <p:childTnLst>
                              <p:par>
                                <p:cTn id="29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898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7000"/>
                            </p:stCondLst>
                            <p:childTnLst>
                              <p:par>
                                <p:cTn id="30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898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8000"/>
                            </p:stCondLst>
                            <p:childTnLst>
                              <p:par>
                                <p:cTn id="31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898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9000"/>
                            </p:stCondLst>
                            <p:childTnLst>
                              <p:par>
                                <p:cTn id="31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898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10000"/>
                            </p:stCondLst>
                            <p:childTnLst>
                              <p:par>
                                <p:cTn id="32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898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11000"/>
                            </p:stCondLst>
                            <p:childTnLst>
                              <p:par>
                                <p:cTn id="33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898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12000"/>
                            </p:stCondLst>
                            <p:childTnLst>
                              <p:par>
                                <p:cTn id="33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898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13000"/>
                            </p:stCondLst>
                            <p:childTnLst>
                              <p:par>
                                <p:cTn id="34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898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5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7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0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2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4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5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7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9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0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2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4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5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7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0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2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4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5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7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0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2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4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5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7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9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0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2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4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5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7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9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0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2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4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5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7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9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0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2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4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5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7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5" name=""/>
          <p:cNvGrpSpPr/>
          <p:nvPr/>
        </p:nvGrpSpPr>
        <p:grpSpPr>
          <a:xfrm>
            <a:off x="1955880" y="1338480"/>
            <a:ext cx="5116320" cy="5106960"/>
            <a:chOff x="1955880" y="1338480"/>
            <a:chExt cx="5116320" cy="5106960"/>
          </a:xfrm>
        </p:grpSpPr>
        <p:sp>
          <p:nvSpPr>
            <p:cNvPr id="1216" name="_s96341"/>
            <p:cNvSpPr/>
            <p:nvPr/>
          </p:nvSpPr>
          <p:spPr>
            <a:xfrm>
              <a:off x="2637000" y="202788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ae99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7" name="_s96342"/>
            <p:cNvSpPr/>
            <p:nvPr/>
          </p:nvSpPr>
          <p:spPr>
            <a:xfrm rot="3600000">
              <a:off x="2649240" y="201492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714d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8" name="_s96343"/>
            <p:cNvSpPr/>
            <p:nvPr/>
          </p:nvSpPr>
          <p:spPr>
            <a:xfrm rot="7200000">
              <a:off x="264924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33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9" name="_s96344"/>
            <p:cNvSpPr/>
            <p:nvPr/>
          </p:nvSpPr>
          <p:spPr>
            <a:xfrm rot="10800000">
              <a:off x="2636640" y="202752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e62e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0" name="_s96345"/>
            <p:cNvSpPr/>
            <p:nvPr/>
          </p:nvSpPr>
          <p:spPr>
            <a:xfrm rot="14400000">
              <a:off x="2649960" y="201420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cc28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1" name="_s96346"/>
            <p:cNvSpPr/>
            <p:nvPr/>
          </p:nvSpPr>
          <p:spPr>
            <a:xfrm rot="18000000">
              <a:off x="264996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bf26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2" name="_s96279"/>
            <p:cNvSpPr/>
            <p:nvPr/>
          </p:nvSpPr>
          <p:spPr>
            <a:xfrm>
              <a:off x="3289320" y="2048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regelmäßig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3" name="_s96278"/>
            <p:cNvSpPr/>
            <p:nvPr/>
          </p:nvSpPr>
          <p:spPr>
            <a:xfrm>
              <a:off x="24289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täglich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4" name="_s96265"/>
            <p:cNvSpPr/>
            <p:nvPr/>
          </p:nvSpPr>
          <p:spPr>
            <a:xfrm>
              <a:off x="32893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ccaa00"/>
                  </a:solidFill>
                  <a:latin typeface="Arial"/>
                </a:rPr>
                <a:t>bürgeraktiv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5" name="_s96264"/>
            <p:cNvSpPr/>
            <p:nvPr/>
          </p:nvSpPr>
          <p:spPr>
            <a:xfrm>
              <a:off x="50101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Vorschläge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6" name="_s96263"/>
            <p:cNvSpPr/>
            <p:nvPr/>
          </p:nvSpPr>
          <p:spPr>
            <a:xfrm>
              <a:off x="58705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darüber</a:t>
              </a: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7" name="_s96280"/>
            <p:cNvSpPr/>
            <p:nvPr/>
          </p:nvSpPr>
          <p:spPr>
            <a:xfrm>
              <a:off x="5010120" y="2050200"/>
              <a:ext cx="727200" cy="72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können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aa00"/>
                </a:solidFill>
                <a:latin typeface="Arial"/>
              </a:rPr>
              <a:t>Märchentage</a:t>
            </a: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-360" y="1917360"/>
            <a:ext cx="3187800" cy="42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1116000" y="371628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7308720" y="364500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E48AF1-14BC-4A2E-B346-00E06422B360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fld id="{83F1AEF3-BE14-47F2-9607-567CB03374D6}" type="datetime1">
              <a:rPr lang="en-US"/>
              <a:t>07/29/26</a:t>
            </a:fld>
          </a:p>
        </p:txBody>
      </p:sp>
    </p:spTree>
  </p:cSld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0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4" dur="10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7" dur="5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49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2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53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6" dur="10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58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1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62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3T14:29:50Z</dcterms:created>
  <dc:creator>pd149311</dc:creator>
  <dc:description/>
  <dc:language>en-US</dc:language>
  <cp:lastModifiedBy>pd149311</cp:lastModifiedBy>
  <dcterms:modified xsi:type="dcterms:W3CDTF">2004-11-10T11:18:20Z</dcterms:modified>
  <cp:revision>44</cp:revision>
  <dc:subject/>
  <dc:title>Carlos Santana </dc:title>
</cp:coreProperties>
</file>