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0410B-F331-4D4C-AFF6-4ACCB96C2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186E8-9943-4831-A1EC-05EC7B291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65B83-64E6-4534-A8B5-A38E5C4DA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13FF5-41E6-4198-BFD9-8A7AF8794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8EA69-98F3-4F9F-B896-EBD346D40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83BF5-A145-4203-B379-5F20E7802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899F4-6027-4B98-863C-AA9655B79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F3D71-B6BC-49FD-BB1E-2A844A632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F2D92-EDD2-4488-AEA3-30FCB04FD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C623A-A84A-45C3-AC19-EF50ACC3D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AB343-6F3F-4C65-9DCF-6030702E2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DAEBF-EBB7-40DB-8BC6-760FBF811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6E4C9-E46F-4341-9D03-1FD62E226B21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straier</a:t>
            </a:r>
            <a:r>
              <a:rPr b="0" lang="ja-JP" sz="3600" spc="-1" strike="noStrike">
                <a:solidFill>
                  <a:srgbClr val="000000"/>
                </a:solidFill>
                <a:latin typeface="Times New Roman"/>
              </a:rPr>
              <a:t>のサンプル文書</a:t>
            </a: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S-PowerPoint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457200" y="457200"/>
            <a:ext cx="8153280" cy="55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NCE upon a time there were four little Rabbits, and their names w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lopsy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opsy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tton-tail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d Pet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lived with their Mother in a sand-bank, underneath the root of a very big fir-tre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むかし昔、４匹の子ウサギがいました。彼らの名前は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フロプシー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モプシー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コットンテイル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そして、ピーターといいました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彼らはお母さんと一緒に、とても大きなモミの木の真下にある砂州の中に住んでいました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平林幹雄</dc:creator>
  <dc:description/>
  <dc:language>en-US</dc:language>
  <cp:lastModifiedBy>大岡越前守忠助</cp:lastModifiedBy>
  <dcterms:modified xsi:type="dcterms:W3CDTF">2004-06-09T11:48:00Z</dcterms:modified>
  <cp:revision>1</cp:revision>
  <dc:subject/>
  <dc:title>Estraierのサンプル文書：MS-PowerPoint編</dc:title>
</cp:coreProperties>
</file>