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0EA-2E0F-41E6-AA13-03C2022D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E6D0-5419-413B-A509-7B765036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30419-60E2-4591-91EA-F083B62F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E64DF-9F96-4208-8868-EA0035EB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1E18D-4270-4841-BD46-C5B99182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8B854-0999-4B5B-8963-C81E8648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EE894-F55E-47F0-81C4-BD655C2C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9249E-F0D0-4F67-A609-86FDEA22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14D4F-A28E-46D1-87A1-C1DC57A1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7F468-DD4B-4A1D-9C65-0C834D61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7699D-ED26-4E0E-82BA-B9FE5626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EAF2B1-FA36-4E93-B8C3-D5BCA9E4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CFA-5AF9-4C5C-95A2-FFD3CB52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1D724E-07F3-4389-A8FB-3A30D703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7F0F1F-4016-4D47-8A31-48E5208B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CEC2CC-CE01-4296-A52A-8A1A9652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0DAB63-685A-40FE-9CA1-AA0BAEA6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5C27AC-7467-4DF1-87BB-6EA31193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06556D-1D1D-45AE-8B9C-9D4A0C32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001FE8-5CF8-470E-AB12-5987B6A4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26FB15-E045-45ED-A750-D7B82854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3E37F5-C766-4046-90EB-897CDA97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00393E-2B12-48F9-A9C3-1F254705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4E06-E4CA-482F-A8FF-83D66373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BDA7F4-4A29-45AD-8F0F-05B88F09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32C23-B7F5-4BF4-BF5C-E1ACC27B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0929C-D489-40B8-8E4C-181D29BA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C344C-84CA-46D6-8B95-7E18865F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5CFEC-BFF0-4AEE-B18A-9A95DB42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90EC2-6E4E-460E-BC3B-57D5A455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6A8B5-294C-4DD4-92F8-13B26CF9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B8AC7-8F91-4A7C-8832-1AC1835A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0EAD3-6FB3-4D0E-8190-B8190419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5F9D1-4486-493F-902B-B2BBB854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340D-8AFF-4F6D-874D-3233369D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29ED6-5AB0-4D86-BD87-39DD5BCC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ACE5B-64F6-4A0F-B13F-E098EF4B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9A479-50E6-47BD-AF06-7749C909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F19F4-8D03-46BA-9FAE-5AE4C314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38801-A614-4F98-B866-004E657F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D6AE6-9005-4383-A15E-BB09D86A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BA750-7196-44FB-921D-93ECC3AA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85F1E-2885-4179-945C-399A0581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425FB-C206-48E5-997F-4F786FA9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CE8FA-8873-44BF-8F4E-B9F15B24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508E-0E34-43F3-B8F7-4705FF44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DC7B3-65F0-42B5-A6D5-85D3B59E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2BAA1-05B7-41E5-86BF-EA03773E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6B393-2A07-4E2C-B682-A4D7135C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E5C4F-9D8B-474E-9B7D-8637FDAE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2CD59-8B88-47EF-8E59-5F743D35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0E43-B90E-4950-B7FF-F3DE0072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BF3C-1D05-4EBD-8AED-541FD186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E206-1052-4C06-93EB-8607F6CE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72FC-B56D-4627-AA51-C32E5CCB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0881-BC82-4B5A-A7B9-AAA4E11C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1D3-9053-4A84-80F6-2F09CE2A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9307-ABC5-4EA1-93F4-72CAB4E3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4486-9630-4582-BEC2-17749FA0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BC40-1B04-4116-9E03-BE70578A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D559-5B67-4BFE-B6AA-EB9636C7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2F86-6739-457A-837E-40F98C1E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F4EA9-10F2-49D3-A4AE-0545E8AA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787C0-B630-45F0-9634-BBD702A3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FF695-9552-47BE-B0B3-88BB0F2D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5112A-0776-4B30-A264-416B6A85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A8809-F441-4B9D-9FE6-90B41D90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1C1-095C-46B7-BD2E-0A1C50A6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F9D28-6136-4144-8C6B-E1BB6208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D3D52-0657-4F4E-A260-83A26D4B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7ACAC-0E10-4B9C-BC6E-3314176A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CB1D4-7CC3-4588-AD49-E8235653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B4471-4DFA-45B7-8A2C-E00E868E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FEEBF-D736-425B-8742-6390BA18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4E5ED-D96D-47E7-93DF-17B5A268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C8999-89C7-4404-ABD6-97F6B778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2015B-08A3-4A64-9C09-3F0814DD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22F11-FA55-4412-A15B-F4800DE5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27C-EB64-47C2-BFD6-2684557B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EBEFA-1AEC-44AE-BB70-E1817916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704D4-735E-42AD-9510-55422FA8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0C710-CE6B-4A3A-9405-72352A1E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72F9F-C3AA-4F8F-AD71-DD6CBEDF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1C7C6-6011-42B6-B3B9-37E1A151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E7933-AFB9-4900-8BF8-B719040B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FF0D0-3214-43FC-AE68-F69E9D6F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1762B-74C0-4DED-B8A1-A10D7E34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C0318-5D87-4155-8E17-424D1A70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301780-31C2-45BE-BB76-4DB9937B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EFF-CA15-4AC3-9761-803E688B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FD287-CFBC-410F-A7AD-897A7572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70C27-63C1-4511-8F75-7EFDCBE4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CA1C8-1F6E-4016-BB99-9A0A9F1F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9E887B-A1C1-4D6E-99EF-DD5F68D3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7621FC-E407-4A3C-9D31-A2B5F241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17F950-116B-423D-A3F8-AE2F5ACD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BF8A97-C220-40CA-83A1-57D216B1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78B310-D691-43CA-AA7D-4904D3D0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286B20-0EFD-4687-8C40-29B963CA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4DA7A-D749-4D09-A717-9F9F450C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6978-2EFD-4B59-A933-A64B76F0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D014CB-4803-4186-AC66-E64FFA11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DC4E1-4AEB-46AB-AAFB-DA9A23F7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468B7-81C7-4D4A-9506-CB030E25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3734F-81DB-4E4B-AA85-D5A66B6A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D01AC-7E16-46E8-9005-7A6865A3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ED91B-473A-44E0-B3A4-D5708A27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9538B-898C-43E7-9755-B11F399F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D9442-784A-49A2-94F5-2B01F5A1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FE8DF-8178-4ECB-8276-2DF270E5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DAD2F-B3CF-4744-AF2B-747C0A06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FA0-63C3-43F3-AB78-93F46D6C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B6400-3473-4D4C-AE4C-CFAF52C9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3B74B-CA6C-424A-89C2-E2021B77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4D066-438D-4D09-988B-904C4610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8147D-54B9-4BE5-A0E6-13295F97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3F996-9290-4201-BE5C-6421F0C1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798E9-6A63-41ED-8B1A-E23CA3EC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52D85-6417-40D6-A4E3-FA95C96D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4B8BA-5282-4336-BFD8-231E5CB3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E695E-13B7-4DDD-B5EF-043E6B78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12A9B-2D85-43B8-BE1E-525A3CC2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B3CC-66DB-4D6F-BBA5-8EA00EB6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DCCEB-E9DA-4063-85E1-1F9355C2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B9F02-5822-4F95-9CE6-0233C82D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436C5-E0D2-4118-8F0D-42BB0D54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A7B5D-2586-40F6-B833-8C2A5F8D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1AFBE-DF28-4764-B62F-D3A8D674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B544A-95E1-447C-B78B-F19E65CF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D1C4B-1629-49E7-8A4B-230AE3C3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15366-A6CB-4BA7-AEC2-9B713444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14D33-B9BC-49BD-B417-F8017443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0D5F3-37B8-4556-870C-BEBFD77F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B0B-6C95-49F9-BCBF-E244B7DA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D61EC-C783-4AC6-91BD-4FD4732F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5A3E6-8AE2-475E-AC41-606AE5D8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DB392-6643-4F40-9794-5DB8DD5B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C1A95-C9DC-4D1C-91A9-70342F85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7FC13-B8EA-429E-8506-EE0F13E9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49758-B7E0-4066-8FB2-6EA5C414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6B017-09A3-4159-AD9C-1BB74409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77789-AA4D-4A72-BE70-D9426AC0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25752-1C60-4322-AAFB-47B30DD4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DDE75-C113-420D-A67C-84755B26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DDBC-BDFD-4883-B87E-321F6C789C4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67BE-8206-4FE7-902C-0A906854ED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0448-CCF5-46C4-9838-DF0E876A0C9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C9B0-D7E3-4A87-9244-9E5E150E2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8A57-1F33-4F84-9A0A-20CCB51ACE8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4D4C-1DC7-42F2-82A3-C9FC220E41C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0408-9D89-4F99-B0CD-C848015DC75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8B95-63B6-423B-A077-7D09811600B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7F6C-039D-4990-8F79-556D2C873C6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EB10-B386-4A45-A3B1-515B8CE196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2A0E-86E0-455B-A7BD-5B96011CC38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6C80-1F7C-4418-9EB0-EC3058BD6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145E-6334-4CC8-94B2-9161CEE883F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3CC9-1763-466D-8275-9680A03EA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E93C-6693-4E50-B437-9C0E0EE369B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3297-425B-470A-A9F6-021905D1E5B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7D07-DE23-4D41-A268-800738F2971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A20E-ED9A-4B04-9F37-AC3E5644BA0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F92C-406C-43A7-B922-29C72771D9F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F678-1350-4703-B05B-75884C49A3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E0D0-DAEE-4A13-B0E8-ADB90C2EAA5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A1AD-067D-48F1-BFC1-2D2B533B139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03F9-9A30-4B54-B8D4-FEB08AD9974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2EC3-2C34-4834-A692-5BE4C1D1D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E44-9D50-41E3-BA28-2EEA32FA73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32E2B-A231-47FF-ACDA-53DF457BF53F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63DC4-8D76-4DF7-91E3-39DC89036D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FDA6D1AA-CA22-4215-85D8-BB4FB6FCE528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2)" transition="out">
                                      <p:cBhvr additive="repl">
                                        <p:cTn id="136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D6F03-FF5B-4B30-8011-D33DD0D4842A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7E6821-7C67-4DE3-984C-67FDBBE9DC6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781E2F39-9805-4BDC-A9E2-E5E77FC2DD86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E8452-ADC1-4412-A965-6F1A37FF78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371F978E-F9B1-4626-BC29-E7A21574ACB3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1471D-F33B-4DE7-A9AC-256835F6742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435D8EE6-71F1-49E0-9D48-B510BCAD79B1}" type="datetime1">
              <a:rPr lang="en-US"/>
              <a:t>07/29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